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95AA-F518-41E6-B21B-9301185DCF0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3164-0F53-449A-9A9D-4C1B11B93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7172-CCCC-4308-B865-F32E18DD61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5C12-20E4-4E46-B0E3-515DAE0EFE6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2D2-43BE-4E4A-B3C5-95C61D8C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1E5-8B57-4E73-9FEF-5212EF01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730-2D67-4DAA-9B14-04C00995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7BF-9BE9-4FAE-9C76-0D8D2A98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702-D4E4-4959-B3BC-68C0BFB3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677-07C7-40D6-9D08-0E25ECF4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120-5FBF-44A8-BE9C-0647644F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F9E-2898-489A-90F2-21AE9A21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B11-B13E-488D-B0EB-BF1D888D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CCA-5E21-473D-A281-A1778A2C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7F2-9681-4698-BE61-0E072C78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26E-FCA5-45BC-9723-01E2DF58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86B8-0723-417F-BC03-C3A9E546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01FD-B370-4F6F-A2D9-A7B06756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1FAE-8ABD-4F39-8983-CD7F6A4E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ADD7-8A8B-4BFF-AD6A-1EA1C0B7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85D1-4012-40ED-BD02-33DE9667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3D4A-0BF4-4C3E-80BA-9A6FFE5D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AA68-5233-464A-84D0-2286F39D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C100-80DC-46FD-9538-390D3730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72B0-7B2A-42FC-AC20-C00A876D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3592-676D-4A32-B815-6413E8AF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5322-CCEF-4E41-B8CB-2D47D051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4B01-72B7-4E44-90C1-E2EF5D84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-302760" y="64533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E465-7291-4D5D-AE24-65BDB08BC143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/12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23400" y="64533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BF68-2E01-46CD-BD42-AC3C921DEAE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/12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23400" y="64533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EAF7-336A-4F16-9020-59C4CA08123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2133720" y="213372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ed 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79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86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worst case, this operation is in O(    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on into Singly Linked L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13B003-CACF-42BB-AE64-FB9BCD3D1A6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36760" y="5716440"/>
            <a:ext cx="8180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gure 3-4 Inserting a new node at the beginning of a singly linked li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0832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on into Singly Linked Lists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87FAEB-F1CE-4723-8971-1ADF4808673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77160" y="5699160"/>
            <a:ext cx="78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5 Inserting a new node at the end of a singly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33880" cy="4191120"/>
          </a:xfrm>
          <a:prstGeom prst="rect">
            <a:avLst/>
          </a:prstGeom>
          <a:ln w="0">
            <a:noFill/>
          </a:ln>
        </p:spPr>
      </p:pic>
      <p:sp>
        <p:nvSpPr>
          <p:cNvPr id="206" name="Content Placeholder 1"/>
          <p:cNvSpPr/>
          <p:nvPr/>
        </p:nvSpPr>
        <p:spPr>
          <a:xfrm>
            <a:off x="17928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 the worst case, this operation is in O(   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on into Singly Linked Lists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C47CFF-C166-4814-9304-DA16EC93952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70028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ToHead(T e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ad = new SLLNode&lt;T&gt;(el,hea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tail ==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il = hea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ToTail(T e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il.next = new SLLNode&lt;T&gt;(e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il = tail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head = tail = new SLLNode&lt;T&gt;(e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ion from Singly Linked L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89F5FD-3FD0-4406-9A5F-984286955A0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49640" y="4632480"/>
            <a:ext cx="83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6 Deleting a node from the beginning of a singly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05240" cy="2809800"/>
          </a:xfrm>
          <a:prstGeom prst="rect">
            <a:avLst/>
          </a:prstGeom>
          <a:ln w="0">
            <a:noFill/>
          </a:ln>
        </p:spPr>
      </p:pic>
      <p:sp>
        <p:nvSpPr>
          <p:cNvPr id="214" name="Content Placeholder 1"/>
          <p:cNvSpPr/>
          <p:nvPr/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 the worst case, this operation is in O(   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ion from Singly Linked Lists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9D746F-AD1B-4A5E-866B-60ABDFFE3C6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54560" y="5699160"/>
            <a:ext cx="75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7 Deleting a node from the end of a singly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440240" cy="4230720"/>
          </a:xfrm>
          <a:prstGeom prst="rect">
            <a:avLst/>
          </a:prstGeom>
          <a:ln w="0">
            <a:noFill/>
          </a:ln>
        </p:spPr>
      </p:pic>
      <p:sp>
        <p:nvSpPr>
          <p:cNvPr id="219" name="Content Placeholder 1"/>
          <p:cNvSpPr/>
          <p:nvPr/>
        </p:nvSpPr>
        <p:spPr>
          <a:xfrm>
            <a:off x="17928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 the worst case, this operation is in O(   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ion from Singly Linked Lists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DF36DC-0367-4302-83CC-E30D3B09EA7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 deleteFromHead() { // delete head and return its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info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sEmpty()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 el = head.info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head == tail)    // if only one node on the li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ad = tail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head = head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e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ion from Singly Linked Lists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EDC7A4-BBA5-4826-B083-FC95BA9B14D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4560" y="1197000"/>
            <a:ext cx="900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 deleteFromTail() { // delete tail, return its info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sEmpty()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 el = tail.info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head == tail)      // if only one node in li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ad = tail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                 // if more than one node in lis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LNode&lt;T&gt; tmp;   // find predecessor of tai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tmp = head; tmp.next != tail; tmp = tmp.nex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il = tmp;       // predecessor of tail becomes tai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il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e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ion from Singly Linked Lists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D8833E-14F4-4A81-94B6-DB81F38DD03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4560" y="1197000"/>
            <a:ext cx="900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lete(T el) {  // delete the node with element e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isEmpty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head == tail &amp;&amp; el.equals(head.info)) // if only 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ad = tail = null;       // node on the li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 (el.equals(head.info)) // if &gt; one node on li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ad = head.next;   // and el is in the head n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                   // if more than one node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LNode&lt;T&gt; pred, tmp;// and el is in a nonhead n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pred = head, tmp = head.next;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mp != null &amp;&amp; !tmp.info.equals(el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d = pred.next, tmp = tmp.nex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tmp != null) {   // if el was foun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d.next = tmp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tmp == tail) // if el is in the last n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il = pre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ting a Singly Linked List and Checking an Element in a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69A069-F5CD-4368-89E3-28F8BD47447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4560" y="1196640"/>
            <a:ext cx="9001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Al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LLNode&lt;T&gt; tmp = head; tmp != null; tmp = tmp.nex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tmp.info + " ");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InList(T e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LNode&lt;T&gt; t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tmp = head; tmp != null &amp;&amp; !tmp.info.equals(el); tmp = tmp.nex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mp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ubly linked 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is when each node in a linked list has two reference fields, one to the successor and one to the prede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bly Linked L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66F42E-056D-46CB-B378-8AF9320776E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2644560" y="5638680"/>
            <a:ext cx="37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9 A doubly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209680" y="3228840"/>
            <a:ext cx="48578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 and Algorithms in Java”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dition, Adam Drozdek, Thomson Learning, ISBN 0-534-49252-5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pter 3 (Sections 1 – 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tions 3.4-3.9 are not inclu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oubly Linked List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95F851-BB95-4F4B-8D64-C91F9B52237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4560" y="1197000"/>
            <a:ext cx="9001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******************  DLLNode.java  *******************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       node of generic doubly linked list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LLNode&lt;T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 info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LLNode&lt;T&gt; next, prev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LLNod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 = null; prev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LLNode(T e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fo = el; next = null; prev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LLNode(T el, DLLNode&lt;T&gt; n, DLLNode&lt;T&gt; p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fo = el; next = n; prev = 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oubly Linked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BA017B-21AE-4DAF-9B55-DA6DC17572A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4560" y="1197000"/>
            <a:ext cx="9001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******************  DLL.java  *******************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       generic doubly linked list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LL&lt;T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LLNode&lt;T&gt; head, tai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L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ad = tail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head =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ToNul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ad = tail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on into Doubly Linked L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55E338-592C-4FDF-A649-85A96ECCA32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83560" y="5622840"/>
            <a:ext cx="78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11 Adding a new node at the end of a doubly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02272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worst case, this operation is in O( 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on into Doubly Linked Lists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6C6E46-CF5E-4AF2-81FE-E464E7D9499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583560" y="5486400"/>
            <a:ext cx="78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11 Adding a new node at the end of a doubly linked li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9896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on into Doubly Linked Lists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BD136B-653B-4514-9398-E6BC26FBFD6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4560" y="1700280"/>
            <a:ext cx="90010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ToTail(T e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tail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il = new DLLNode&lt;T&gt;(el,null,tai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il.prev.next = tai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head = tail = new DLLNode&lt;T&gt;(e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ion from Doubly Linked L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BCECF6-9D9C-4422-AED6-970686252EA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78600" y="5470560"/>
            <a:ext cx="77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12 Deleting a node from the end of a doubly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1523880" y="1508040"/>
            <a:ext cx="606744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ion from Doubly Linked Lists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6D594F-3011-41AD-84E1-E9627768E94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4560" y="1700280"/>
            <a:ext cx="9001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 deleteFromTai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sEmpty()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 el = tail.info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head == tail)   // if only one node on the li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ad = tail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              // if more than one node in li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il = tail.prev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il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e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ircular list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when nodes form a ring: The list is finite and each node has a suc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rcular L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A3D811-572C-4DFB-BD87-723E4F82EC3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129040" y="4876920"/>
            <a:ext cx="48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13 A circular singly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7769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rcular Lists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445053-26F1-4686-BF6E-31A63403221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447480" y="5410080"/>
            <a:ext cx="81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14  Inserting nodes at the front of a circular singly link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(a) and at its end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1834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rcular Lists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D91AF4-18A7-4010-9D9E-B8E13C3986F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205720" y="4191120"/>
            <a:ext cx="492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15 A circular doubly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1905120" y="1916280"/>
            <a:ext cx="551340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the following topic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y 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y 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r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23760" y="64533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376B32-0B60-48C3-9E37-23A49D67B03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F3E0EA-4EC4-4373-A2D8-A4AECE7B6F0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nked structure is a collection of nodes storing data and links to other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data structure composed of nodes, each node holding some information and a reference to another node in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de in a singly linked list has a link only to its successor in this sequen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de in a doubly linked list has links to its successor and predecessor in this sequen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ircular list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when nodes form a ring: The list is finite and each node has a success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dvantage of arrays over linked lists is that they allow random access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nked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collection of nodes storing data and links to othe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nked list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data structure composed of nodes, each node holding some information and a reference to another node in the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ly linked 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node that has a link only to its successor in this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y Linked L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87720F-D74C-4008-B95D-99C313A0FBB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y Linked Lists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8CF4D1-AF84-4884-85F1-F5CC3980CD5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511720" y="571500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1 A singly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06440" y="1424160"/>
            <a:ext cx="83311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y Linked Lists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C7E9EC-1BFC-4236-A2C7-AA182ED0501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204640" y="5105520"/>
            <a:ext cx="51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1 A singly linked list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326880" y="1909800"/>
            <a:ext cx="8488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509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***********  SLLNode.java  ****************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node in a generic singly linked list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LLNode&lt;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T inf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LLNode&lt;T&gt;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LLNod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(null,null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LLNode(T 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(el, null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LLNode(T el, SLLNode&lt;T&gt; pt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 = el; next = pt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ode in a Singly Linked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A3E13A-3D70-4D87-8EF5-3EFD44245F2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ist in a Singly Linked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4545DF-3073-4E7C-A7D4-23DFDA0AFFE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557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****************  SLL.java  *****************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 a generic singly linked list clas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LL&lt;T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tected SLLNode&lt;T&gt; head, tai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L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ad = tail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head =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78080"/>
                <a:tab algn="l" pos="200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y Linked List Visu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AC60A1-D651-4797-9D19-2110D9BE356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036520" y="48117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3-3 A singly linked list of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633096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0:48:17Z</dcterms:created>
  <dc:creator>Win98</dc:creator>
  <dc:description/>
  <dc:language>en-US</dc:language>
  <cp:lastModifiedBy>Wasfi Al-Khatib</cp:lastModifiedBy>
  <dcterms:modified xsi:type="dcterms:W3CDTF">2012-09-12T06:54:52Z</dcterms:modified>
  <cp:revision>428</cp:revision>
  <dc:subject/>
  <dc:title>Slide 1</dc:title>
</cp:coreProperties>
</file>