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6.wmf" ContentType="image/x-wmf"/>
  <Override PartName="/ppt/media/image11.png" ContentType="image/png"/>
  <Override PartName="/ppt/media/image19.wmf" ContentType="image/x-wmf"/>
  <Override PartName="/ppt/media/image14.jpeg" ContentType="image/jpeg"/>
  <Override PartName="/ppt/media/image4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2D1B-7217-4D76-8422-AD99B4A1E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5002-9C13-4986-83B0-19D193B73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5154-8EA6-4899-A017-53F3E66FB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C6C4-6E1E-41C2-A871-DFECA4635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8212-7DFD-4BBD-9D28-3B094E615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77D8-3691-42C4-BD67-F66C61E01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8E80-D0FC-4E02-8145-B63A24EE0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1ADE-E910-4A7D-8B36-C355CB6D8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4345-A001-4AB2-9BD1-C8F9A4CF7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7191-D11E-4170-9394-A6BE2DC63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2A07-FD65-4F9F-A03D-E638292B5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223E-636B-45D6-A703-5AE794CD0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405F-39D0-48B8-AAEC-3826E8D30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1E61-36C6-43DC-A850-DC5FE2BC0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BDA3-F552-49B0-9371-107852073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0C55-2246-462B-B013-058198A48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6BE5-797F-441B-A7B8-D30C870E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8A10-7B8F-41AE-8EF6-E6396622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26F8-4B3E-4A41-9908-1AB73EFA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A9FA-465C-4E41-B0A4-0972B1B7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B118-DDC1-4D29-84AD-B3C2F987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1A3C-F9A8-42BF-8B66-474D6F04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B158-5ED0-4222-B85B-ED7F00DF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0493-A824-4A9A-AD66-6F8F3E03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985D-9CB6-4E71-81E7-BD969CDD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1AFC-E97A-46BB-8BAF-74CBC505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F0B3-B193-4AE8-80F1-73DB5190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B0D1-65EA-44BB-80E0-6B59E6249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48A21A-E75E-40F5-AA48-373A5C293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B2984B-9414-47B4-9227-DAE3DF0B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E7D038-BE96-4B2E-8AE0-DCF234C1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C584C5-5D05-484E-A78F-49830393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5E8535-DFFD-4C3E-BC4C-A6336E47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4B18D7-A22C-4AAC-BC19-95626C89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02827B-75DC-468E-9387-251EEB2E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256AB3-5A91-48B5-B03F-C9D26DA7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42E55C-927E-4054-838D-C13512BA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730893-0C2E-48A7-AD4E-0C4BDB19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DEF445-C80E-466A-8447-E6A3A748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612572-6A48-4DD0-8A0C-209737C7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29492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/12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8686440" y="25560"/>
            <a:ext cx="44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6775-7E33-4120-B95A-EC9586A0321E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29492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038480" y="5486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2/12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/12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8686440" y="25560"/>
            <a:ext cx="44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7FDC-0518-4C89-80F9-08AC8957C168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2133720" y="2133720"/>
            <a:ext cx="6400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t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sis of Recursive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21932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Fahd University of Petroleum &amp;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Computer Science &amp;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2592720" y="129528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&amp; Computer Science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75152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ving Recurrence Relations - Iteration meth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6200" y="1341000"/>
            <a:ext cx="8642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monic Ser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3" name="Picture 9" descr="HarmonicSeries"/>
          <p:cNvPicPr/>
          <p:nvPr/>
        </p:nvPicPr>
        <p:blipFill>
          <a:blip r:embed="rId1"/>
          <a:stretch/>
        </p:blipFill>
        <p:spPr>
          <a:xfrm>
            <a:off x="1116000" y="1846440"/>
            <a:ext cx="2808360" cy="718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"/>
          <p:cNvPicPr/>
          <p:nvPr/>
        </p:nvPicPr>
        <p:blipFill>
          <a:blip r:embed="rId2"/>
          <a:stretch/>
        </p:blipFill>
        <p:spPr>
          <a:xfrm>
            <a:off x="1116000" y="3357720"/>
            <a:ext cx="2087640" cy="2881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1" descr=""/>
          <p:cNvPicPr/>
          <p:nvPr/>
        </p:nvPicPr>
        <p:blipFill>
          <a:blip r:embed="rId3"/>
          <a:stretch/>
        </p:blipFill>
        <p:spPr>
          <a:xfrm>
            <a:off x="5075280" y="3502080"/>
            <a:ext cx="3384360" cy="2376360"/>
          </a:xfrm>
          <a:prstGeom prst="rect">
            <a:avLst/>
          </a:prstGeom>
          <a:ln w="0">
            <a:noFill/>
          </a:ln>
        </p:spPr>
      </p:pic>
      <p:sp>
        <p:nvSpPr>
          <p:cNvPr id="256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0DB4-DF41-4C1C-A207-AC5D4FEB406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03280" y="347400"/>
            <a:ext cx="7632720" cy="41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sis Of Recursive Factorial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50920" y="1484280"/>
            <a:ext cx="864216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924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1: Form and solve the recurrence relation describing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mber of multiplication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ut by the factorial method and hence determine its big-O complexit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0504d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2690640" y="2781360"/>
            <a:ext cx="5118480" cy="1739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ong factorial (int n) {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n == 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1;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n * factorial (n – 1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4A72-E5B8-4F84-8500-3697A762091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Object 1"/>
          <p:cNvGraphicFramePr/>
          <p:nvPr/>
        </p:nvGraphicFramePr>
        <p:xfrm>
          <a:off x="2843280" y="4941720"/>
          <a:ext cx="3705120" cy="13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4941720"/>
                    <a:ext cx="370512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7858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sis Of Recursive Towers of Hanoi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79280" y="1052280"/>
            <a:ext cx="878544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77920" indent="-27792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920" indent="-27792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920" indent="-27792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920" indent="-27792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920" indent="-27792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920" indent="-27792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920" indent="-27792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920" indent="-27792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urrence relation describing the number of tim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executed for the metho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no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161280" y="1268280"/>
            <a:ext cx="8821800" cy="2562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hanoi(int n, char from, char to, char temp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n ==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from + " --------&gt; " + to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noi(n - 1, from, temp, to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from + " --------&gt; " + to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noi(n - 1, temp, to, fro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611280" y="450864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inting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CD95-2359-4C30-BC83-F3A05D32F73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7858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sis Of Recursive Towers of Hanoi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79280" y="119700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urrence relation describing the number of times the printing statement is executed for the metho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no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its solution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2E65-E85E-420F-8D30-6FFCB2F2A5A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2557440" y="2684520"/>
          <a:ext cx="3559320" cy="13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7440" y="2684520"/>
                    <a:ext cx="355932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65200" y="274680"/>
            <a:ext cx="749952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sis Of Recursive Binary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42560" y="836280"/>
            <a:ext cx="8893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urrence relation describing the number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method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5651640" y="2492280"/>
            <a:ext cx="18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298080" y="1220760"/>
            <a:ext cx="8684640" cy="393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binarySearch (int target, int[] arra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low, int high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low &gt; hig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-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iddle = (low + high)/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array[middle] == targ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midd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if(array[middle] &lt; targ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binarySearch(target, array, middle + 1, hig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binarySearch(target, array, low, middle - 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5"/>
          <p:cNvSpPr/>
          <p:nvPr/>
        </p:nvSpPr>
        <p:spPr>
          <a:xfrm>
            <a:off x="571680" y="560556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compar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AFCA-ED9B-432F-B08A-9D3E7D3E89E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65200" y="274680"/>
            <a:ext cx="749952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sis Of Recursive Binary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42560" y="83664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urrence relation describing the number of element comparisons for the method in the worst case and its solution a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5240" indent="-397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5651640" y="2492280"/>
            <a:ext cx="18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9DAA-E3A0-4E94-958B-4D773241C08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1"/>
          <p:cNvGraphicFramePr/>
          <p:nvPr/>
        </p:nvGraphicFramePr>
        <p:xfrm>
          <a:off x="1339920" y="2490840"/>
          <a:ext cx="5995800" cy="17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9920" y="2490840"/>
                    <a:ext cx="599580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250920" y="1125360"/>
            <a:ext cx="864216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2: Form and solve the recurrence relation describing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element compariso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x[i] &gt; x[k]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d out by the selection sort method and hence determine its big-O complex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0504d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65200" y="347400"/>
            <a:ext cx="7499520" cy="41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sis Of Recursive Selection S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39280" y="2220840"/>
            <a:ext cx="8494920" cy="4592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selectionSort(int[] x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ionSort(x, x.length);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atic void selectionSort(int[] x, int n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inPos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n &gt; 1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A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maxPos = findMaxPos(x, n -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s-A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(x, maxPos, n -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ionSort(x, n -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atic int findMaxPos (int[] x, int j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k = j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int i = 0; i &lt; j; i++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if(x[i] &gt; x[k])  k = i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k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atic void swap(int[] x, int maxPos, int n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emp=x[n]; x[n]=x[maxPos]; x[maxPos]=temp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4B66-9D8A-47B1-95CD-E4C32F6BC6F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3"/>
          <p:cNvSpPr/>
          <p:nvPr/>
        </p:nvSpPr>
        <p:spPr>
          <a:xfrm>
            <a:off x="250920" y="1125360"/>
            <a:ext cx="864216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2: Form and solve the recurrence relation describing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element compariso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x[i] &gt; x[k]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d out by the selection sort method and hence determine its big-O complex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0504d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65200" y="347400"/>
            <a:ext cx="7499520" cy="41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sis Of Recursive Selection S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A4DD-BD23-4B7C-B477-9381C2C5AB3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Object 2"/>
          <p:cNvGraphicFramePr/>
          <p:nvPr/>
        </p:nvGraphicFramePr>
        <p:xfrm>
          <a:off x="2082960" y="2490840"/>
          <a:ext cx="4508280" cy="17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2960" y="2490840"/>
                    <a:ext cx="450828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ing Assig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29492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et of sli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sis of Recursive 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2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a recurrence relation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22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ing Recurrence Rel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22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ving Recurrence Rel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22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alysis Of Recursive Factorial meth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22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alysis Of Recursive Selection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22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alysis Of Recursive Binary Search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22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alysis Of Recursive Towers of Hanoi Algorith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CE10-BC01-486F-9D31-000919FFEE3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5596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What is a recurrence relation?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1280" y="1196640"/>
            <a:ext cx="896472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recurrence relation, T(n),  is a recursive function of integer variable 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ke all recursive functions, it has both recursive case and base cas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ortion of the definition that does not contain T is called th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ase c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recurrence relation; the portion that contains T is called th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current or recursive c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urrence relations are useful for expressing the running times (i.e., the number of basic operations executed) of recursive algorith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Picture 167" descr=""/>
          <p:cNvPicPr/>
          <p:nvPr/>
        </p:nvPicPr>
        <p:blipFill>
          <a:blip r:embed="rId1"/>
          <a:stretch/>
        </p:blipFill>
        <p:spPr>
          <a:xfrm>
            <a:off x="2195640" y="2306520"/>
            <a:ext cx="4010040" cy="1409760"/>
          </a:xfrm>
          <a:prstGeom prst="rect">
            <a:avLst/>
          </a:prstGeom>
          <a:ln w="0">
            <a:noFill/>
          </a:ln>
        </p:spPr>
      </p:pic>
      <p:sp>
        <p:nvSpPr>
          <p:cNvPr id="216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B01C-C9BD-44F8-A1BA-F30D42400A0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11280" y="347400"/>
            <a:ext cx="7453440" cy="41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Forming Recurrence Relation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920" y="1341360"/>
            <a:ext cx="8642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a given recursive method, the base case and the recursive case of its recurrence relation correspond directly to the base case and the recursive case of the metho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 1: Write the recurrence relation describing the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umber of comparison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arried out for the following metho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base case is reached when n = 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00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number of comparisons is 1, and hence, T(0) = 1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n n &gt; 0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00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number of comparisons is 1 + T(n-1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refore the recurrence relation i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2363400" y="2924280"/>
            <a:ext cx="3716640" cy="155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f (int n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n &gt; 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(n-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Object 5"/>
          <p:cNvGraphicFramePr/>
          <p:nvPr/>
        </p:nvGraphicFramePr>
        <p:xfrm>
          <a:off x="5364000" y="5516640"/>
          <a:ext cx="2735280" cy="6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5516640"/>
                    <a:ext cx="273528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CF85-0CCE-4FE9-A6AC-39CDCADA76F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9640" y="274680"/>
            <a:ext cx="69483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Forming Recurrence Relation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920" y="1197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a given recursive method, the base case and the recursive case of its recurrence relation correspond directly to the base case and the recursive case of the meth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 2: Write the recurrence relation describing th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umber of System.out.printl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atements executed for the following meth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base case is reached when n = 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447840">
              <a:spcBef>
                <a:spcPts val="451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number of executed System.out.println’s is 0, i.e., T(0) = 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n &gt; 0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447840">
              <a:spcBef>
                <a:spcPts val="451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number of executed System.out.println’s is 1 + T(n-1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fore the recurrence relation i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2261160" y="2984400"/>
            <a:ext cx="4158360" cy="1739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f (int n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n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(n-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Object 2"/>
          <p:cNvGraphicFramePr/>
          <p:nvPr/>
        </p:nvGraphicFramePr>
        <p:xfrm>
          <a:off x="4788000" y="6165720"/>
          <a:ext cx="244800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6165720"/>
                    <a:ext cx="24480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F269-E3CD-4AEF-BE75-E70D9FFBBE6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11280" y="274680"/>
            <a:ext cx="7453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Forming Recurrence Relation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50920" y="1268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 3: Write the recurrence relation describing th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umber of addition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rried out for the following meth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base case is reached whe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and henc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&gt;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nce, the recurrence relation i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757440" y="2060640"/>
            <a:ext cx="6581520" cy="192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g(int n)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n ==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3 * g(n / 2) + g( n / 2) + 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C836-8053-4699-BF67-D96A82C69F0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1"/>
          <p:cNvGraphicFramePr/>
          <p:nvPr/>
        </p:nvGraphicFramePr>
        <p:xfrm>
          <a:off x="4427640" y="4135320"/>
          <a:ext cx="780840" cy="3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4135320"/>
                    <a:ext cx="780840" cy="3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2"/>
          <p:cNvGraphicFramePr/>
          <p:nvPr/>
        </p:nvGraphicFramePr>
        <p:xfrm>
          <a:off x="6588000" y="4194000"/>
          <a:ext cx="1024200" cy="38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4194000"/>
                    <a:ext cx="102420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3"/>
          <p:cNvGraphicFramePr/>
          <p:nvPr/>
        </p:nvGraphicFramePr>
        <p:xfrm>
          <a:off x="2411280" y="4554360"/>
          <a:ext cx="2438640" cy="3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1280" y="4554360"/>
                    <a:ext cx="243864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4"/>
          <p:cNvGraphicFramePr/>
          <p:nvPr/>
        </p:nvGraphicFramePr>
        <p:xfrm>
          <a:off x="1476360" y="5300640"/>
          <a:ext cx="3632040" cy="130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76360" y="5300640"/>
                    <a:ext cx="363204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47280" y="274680"/>
            <a:ext cx="741708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olving Recurrence Relation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1840" y="1413000"/>
            <a:ext cx="8642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solve a recurrence relation T(n) we need to derive a form of T(n) that is not a recurrence relation. Such a form is called a closed form of the recurrence rel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four methods to solve recurrence relations that represent the running time of recursive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 method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rolling and summ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titution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 tree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is course, we will only use the Iteration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BD54-3B9E-41B6-AF07-A0C50510708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65200" y="274680"/>
            <a:ext cx="7570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olving Recurrence Relations - Iteration method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50920" y="1268280"/>
            <a:ext cx="8642160" cy="52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ep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5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and the recurr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5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ress the expansion as a summation by plugging the recurrence back into itself until you see a pattern. 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5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luate the sum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evaluating the summation one or more of the following summation formulae may be used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ithmetic serie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ometric Seri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906480" y="4221000"/>
            <a:ext cx="2808360" cy="600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geometricSeries"/>
          <p:cNvPicPr/>
          <p:nvPr/>
        </p:nvPicPr>
        <p:blipFill>
          <a:blip r:embed="rId2"/>
          <a:stretch/>
        </p:blipFill>
        <p:spPr>
          <a:xfrm>
            <a:off x="755640" y="5646600"/>
            <a:ext cx="3600360" cy="86544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7"/>
          <p:cNvSpPr/>
          <p:nvPr/>
        </p:nvSpPr>
        <p:spPr>
          <a:xfrm>
            <a:off x="4427640" y="4005360"/>
            <a:ext cx="439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Cases of Geometric Ser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8" descr=""/>
          <p:cNvPicPr/>
          <p:nvPr/>
        </p:nvPicPr>
        <p:blipFill>
          <a:blip r:embed="rId3"/>
          <a:stretch/>
        </p:blipFill>
        <p:spPr>
          <a:xfrm>
            <a:off x="5148360" y="4508640"/>
            <a:ext cx="3457440" cy="1622160"/>
          </a:xfrm>
          <a:prstGeom prst="rect">
            <a:avLst/>
          </a:prstGeom>
          <a:ln w="0">
            <a:noFill/>
          </a:ln>
        </p:spPr>
      </p:pic>
      <p:sp>
        <p:nvSpPr>
          <p:cNvPr id="250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8182-1CC4-4FE4-B51F-9F771E0E376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3:22:20Z</dcterms:created>
  <dc:creator>Win98</dc:creator>
  <dc:description/>
  <dc:language>en-US</dc:language>
  <cp:lastModifiedBy>Wasfi Al-Khatib</cp:lastModifiedBy>
  <dcterms:modified xsi:type="dcterms:W3CDTF">2012-10-01T06:57:42Z</dcterms:modified>
  <cp:revision>143</cp:revision>
  <dc:subject/>
  <dc:title>Singly Linked Lists</dc:title>
</cp:coreProperties>
</file>