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B275-AA7F-4C2B-A773-8FB952421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E025-5601-4F47-81BB-BC197891E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4826-1598-4EA7-BA2A-09997616F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6326-17F0-490B-86A1-241F49FD4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2D31-70E3-4E14-83CA-14A5B18A4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A4C4-B8A1-49F1-AAFA-85B4E36BA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5EC3-5418-4242-A005-F11F20252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CA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2/12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2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2/12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3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2/12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2133720" y="213372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cks And Que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Content Placeholder 1"/>
          <p:cNvSpPr/>
          <p:nvPr/>
        </p:nvSpPr>
        <p:spPr>
          <a:xfrm>
            <a:off x="762120" y="1341360"/>
            <a:ext cx="8130960" cy="310536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T pop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isEmpty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 new java.util.EmptyStackExcep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ist.removeLas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push(T e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add(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toString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ist.toStr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ack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3806AA18-F18E-49D3-975D-38DA1314386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811160" y="4581360"/>
            <a:ext cx="603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ing a stack as a linked list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"/>
          <p:cNvSpPr/>
          <p:nvPr/>
        </p:nvSpPr>
        <p:spPr>
          <a:xfrm>
            <a:off x="7002360" y="184464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7"/>
          <p:cNvSpPr/>
          <p:nvPr/>
        </p:nvSpPr>
        <p:spPr>
          <a:xfrm>
            <a:off x="7002360" y="278136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8"/>
          <p:cNvSpPr/>
          <p:nvPr/>
        </p:nvSpPr>
        <p:spPr>
          <a:xfrm>
            <a:off x="7002360" y="357336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9"/>
          <p:cNvSpPr/>
          <p:nvPr/>
        </p:nvSpPr>
        <p:spPr>
          <a:xfrm>
            <a:off x="7362720" y="184464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0"/>
          <p:cNvSpPr/>
          <p:nvPr/>
        </p:nvSpPr>
        <p:spPr>
          <a:xfrm>
            <a:off x="7362720" y="278136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1"/>
          <p:cNvSpPr/>
          <p:nvPr/>
        </p:nvSpPr>
        <p:spPr>
          <a:xfrm>
            <a:off x="7362720" y="357336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ack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761760" y="1371240"/>
            <a:ext cx="7659720" cy="4761000"/>
          </a:xfrm>
          <a:prstGeom prst="rect">
            <a:avLst/>
          </a:prstGeom>
          <a:ln w="0">
            <a:noFill/>
          </a:ln>
        </p:spPr>
      </p:pic>
      <p:sp>
        <p:nvSpPr>
          <p:cNvPr id="339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3AB169A6-823C-41EA-93AE-2677A3A97AE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637920" y="5486400"/>
            <a:ext cx="786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eries of operations executed on an abstract stack (a) and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stack implemented with an array (b) and with a linked list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2"/>
          <a:stretch/>
        </p:blipFill>
        <p:spPr>
          <a:xfrm>
            <a:off x="380880" y="1446120"/>
            <a:ext cx="838044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acks i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761760" y="1371240"/>
            <a:ext cx="7659720" cy="4761000"/>
          </a:xfrm>
          <a:prstGeom prst="rect">
            <a:avLst/>
          </a:prstGeom>
          <a:ln w="0">
            <a:noFill/>
          </a:ln>
        </p:spPr>
      </p:pic>
      <p:sp>
        <p:nvSpPr>
          <p:cNvPr id="344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E0143E95-AE55-48E7-80D6-AAA158AFF2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987120" y="4653000"/>
            <a:ext cx="716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ist of methods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util.St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all methods from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469800" y="1371600"/>
            <a:ext cx="82044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39920" y="214200"/>
            <a:ext cx="6904080" cy="4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pplications of Stack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irect applica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miter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Large Nu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ng postfix expre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ge-visited history in a Web brow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o sequence in a text edi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in of method calls in the Java Virtual Mach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indirec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xiliary data structure for some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other data 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01FE-2130-4A89-9089-471003952B4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elimiter Match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2480" y="1371240"/>
            <a:ext cx="899316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examples are properly-delimited statements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= b + (c – d ) * (e – f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[10] = h[i[9]] + (j + k) * 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m &lt; (n[8] + o)) { p = 7; /* initialize p */ r = 6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examples are statements in which mismatching occu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= b + (c – d) * (e – f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[10] = h[i[9]] + j + k) * 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m &lt; (n[8] + o]) { p = 7; /* initialize p */ r = 6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8EA85CD5-8570-4CD2-ACA3-8C36CFFAA6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miter Matching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547640" y="977760"/>
            <a:ext cx="6272280" cy="54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elimiter Match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761760" y="1371240"/>
            <a:ext cx="7659720" cy="4761000"/>
          </a:xfrm>
          <a:prstGeom prst="rect">
            <a:avLst/>
          </a:prstGeom>
          <a:ln w="0">
            <a:noFill/>
          </a:ln>
        </p:spPr>
      </p:pic>
      <p:sp>
        <p:nvSpPr>
          <p:cNvPr id="357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7E5D828E-7406-47DE-8311-E19EBC85EAD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702080" y="5546880"/>
            <a:ext cx="689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ing the stat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=t[5]+u/(v*(w+y)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lgorith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imiterMatch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2"/>
          <a:stretch/>
        </p:blipFill>
        <p:spPr>
          <a:xfrm>
            <a:off x="1225440" y="1539720"/>
            <a:ext cx="66931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elimiter Match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761760" y="1371240"/>
            <a:ext cx="7659720" cy="4761000"/>
          </a:xfrm>
          <a:prstGeom prst="rect">
            <a:avLst/>
          </a:prstGeom>
          <a:ln w="0">
            <a:noFill/>
          </a:ln>
        </p:spPr>
      </p:pic>
      <p:sp>
        <p:nvSpPr>
          <p:cNvPr id="362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3EC1A655-1B5B-4B11-91AC-DFE3348D65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702080" y="5546880"/>
            <a:ext cx="689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ing the stat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=t[5]+u/(v*(w+y)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lgorith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imiterMatching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5" descr=""/>
          <p:cNvPicPr/>
          <p:nvPr/>
        </p:nvPicPr>
        <p:blipFill>
          <a:blip r:embed="rId2"/>
          <a:stretch/>
        </p:blipFill>
        <p:spPr>
          <a:xfrm>
            <a:off x="1752480" y="1447920"/>
            <a:ext cx="55501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dding Large Numbe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761760" y="1371240"/>
            <a:ext cx="7659720" cy="4761000"/>
          </a:xfrm>
          <a:prstGeom prst="rect">
            <a:avLst/>
          </a:prstGeom>
          <a:ln w="0">
            <a:noFill/>
          </a:ln>
        </p:spPr>
      </p:pic>
      <p:sp>
        <p:nvSpPr>
          <p:cNvPr id="367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6D0B5F9C-4344-4FB4-9FA8-AC7DFB3ECE2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033560" y="5653080"/>
            <a:ext cx="73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example of adding numbers 592 and 3,784 using st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5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571500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9218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Application of Stacks: Evaluating Postfix Expressio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5+9)*2+6*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rdinary arithmetical expression like the above is called infix-expression -- binary operators appear in between their opera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rder of operations evaluation  is determined by the precedence rules and parenthesi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valuation order is desired that is different from that provided by the precedence, parentheses are used to override precedence ru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5078-2E1C-49A2-9783-55CC328BDE5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ing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s and Algorithms in Java”,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dition, Adam Drozdek, Cengage Learning, ISBN 978-981423923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781200" y="1341360"/>
            <a:ext cx="8362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ions can also be represented using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postfi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 - where an operator comes after its two opera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dvantage of postfix notation is that the order of operation evaluation is unique without the need for precedence rules or parenthesi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979640" y="4005360"/>
          <a:ext cx="5295960" cy="2286000"/>
        </p:xfrm>
        <a:graphic>
          <a:graphicData uri="http://schemas.openxmlformats.org/drawingml/2006/table">
            <a:tbl>
              <a:tblPr/>
              <a:tblGrid>
                <a:gridCol w="2647800"/>
                <a:gridCol w="2648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t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 / 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   2  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2 + 14)* 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 14  +  5  *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 +  14 * 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  14  5  * 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6 – 2) * (5 + 4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 2  -  5  4  + *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BF5A-0FC5-4B50-B3E8-BB9446073D7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1187280" y="189000"/>
            <a:ext cx="7921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Application of Stacks: Evaluating Postfix Expres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following algorithm uses a stack to evaluate a postfix express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Start with an empty st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for (each item in the expressio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if (the item is a numb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Push the number onto the st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else if (the item is an operator)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Pop two operands from the stac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Apply the operator to the oper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Push the result onto the st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Pop the only one number from the stack – that’s the result of the evalu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64FB-8473-4E52-85FD-E0B3CD1A840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1187280" y="189000"/>
            <a:ext cx="7921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Application of Stacks: Evaluating Postfix Expres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0" y="1339560"/>
            <a:ext cx="8362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: Consider the postfix expression, 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2  10  +  9  6  -  /,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which is   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(2 + 10) / (9 - 6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in infix, the result of which is 12 / 3 = 4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e following is a trace of the postfix evaluation algorithm for the above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1" name="Picture 4" descr="postfix2"/>
          <p:cNvPicPr/>
          <p:nvPr/>
        </p:nvPicPr>
        <p:blipFill>
          <a:blip r:embed="rId1"/>
          <a:stretch/>
        </p:blipFill>
        <p:spPr>
          <a:xfrm>
            <a:off x="324000" y="3213000"/>
            <a:ext cx="8569080" cy="2952720"/>
          </a:xfrm>
          <a:prstGeom prst="rect">
            <a:avLst/>
          </a:prstGeom>
          <a:ln w="0">
            <a:noFill/>
          </a:ln>
        </p:spPr>
      </p:pic>
      <p:sp>
        <p:nvSpPr>
          <p:cNvPr id="382" name="Slide Number Placeholder 1"/>
          <p:cNvSpPr/>
          <p:nvPr/>
        </p:nvSpPr>
        <p:spPr>
          <a:xfrm>
            <a:off x="8686800" y="255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0885-D525-49BC-A7F4-7552E495B63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4545000"/>
            <a:ext cx="718920" cy="15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1332000" y="4581360"/>
            <a:ext cx="718920" cy="14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2556000" y="4616280"/>
            <a:ext cx="718920" cy="14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3780000" y="4572000"/>
            <a:ext cx="718920" cy="14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5473800" y="4581360"/>
            <a:ext cx="718920" cy="14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6875640" y="4689360"/>
            <a:ext cx="720720" cy="14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8174160" y="4762440"/>
            <a:ext cx="718920" cy="14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395280" y="3770280"/>
            <a:ext cx="129708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3"/>
          <p:cNvSpPr/>
          <p:nvPr/>
        </p:nvSpPr>
        <p:spPr>
          <a:xfrm>
            <a:off x="1835280" y="3905280"/>
            <a:ext cx="136836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4"/>
          <p:cNvSpPr/>
          <p:nvPr/>
        </p:nvSpPr>
        <p:spPr>
          <a:xfrm>
            <a:off x="3635280" y="3932280"/>
            <a:ext cx="86364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5"/>
          <p:cNvSpPr/>
          <p:nvPr/>
        </p:nvSpPr>
        <p:spPr>
          <a:xfrm>
            <a:off x="4608360" y="3879720"/>
            <a:ext cx="122400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6"/>
          <p:cNvSpPr/>
          <p:nvPr/>
        </p:nvSpPr>
        <p:spPr>
          <a:xfrm>
            <a:off x="6192720" y="3843360"/>
            <a:ext cx="118764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7"/>
          <p:cNvSpPr/>
          <p:nvPr/>
        </p:nvSpPr>
        <p:spPr>
          <a:xfrm>
            <a:off x="7709040" y="3933720"/>
            <a:ext cx="1039680" cy="3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1187280" y="189000"/>
            <a:ext cx="7921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Application of Stacks: Evaluating Postfix Expres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0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0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2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3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8557343D-AA6B-4C80-8AD8-723DC55972F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u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waiting line that grows by adding elements to its end and shrinks by taking elements from its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queue is a structure in which both ends are used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adding new eleme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removing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queue is a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O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: first in/first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3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286A63D1-3E78-4ECC-85E6-682BC953D2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ue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operations are needed to properly manage a queu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lear(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— Clear the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sEmpty(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— Check to see if the queue is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nqueue(el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— Put the elemen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the end of the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queue(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— Take the first element from the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rstEl(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— Return the first element in the queue without removing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3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35AAC73B-73ED-441D-AA9E-744003C1E7C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ue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1837800" y="342900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eries of operations executed on a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5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5264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A00E4249-60E9-4873-AFEF-3D9DE00486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ue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1671840" y="5394240"/>
            <a:ext cx="700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possible configurations in an array implement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queue when the queue is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5435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3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B51DA920-D688-49BC-A300-6F6CAD87862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ue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2502000" y="5546880"/>
            <a:ext cx="41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 implementation of a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"/>
          <p:cNvPicPr/>
          <p:nvPr/>
        </p:nvPicPr>
        <p:blipFill>
          <a:blip r:embed="rId1"/>
          <a:stretch/>
        </p:blipFill>
        <p:spPr>
          <a:xfrm>
            <a:off x="571680" y="1450800"/>
            <a:ext cx="7999200" cy="3961080"/>
          </a:xfrm>
          <a:prstGeom prst="rect">
            <a:avLst/>
          </a:prstGeom>
          <a:ln w="0">
            <a:noFill/>
          </a:ln>
        </p:spPr>
      </p:pic>
      <p:sp>
        <p:nvSpPr>
          <p:cNvPr id="415" name="TextBox 6"/>
          <p:cNvSpPr/>
          <p:nvPr/>
        </p:nvSpPr>
        <p:spPr>
          <a:xfrm>
            <a:off x="7002360" y="328464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7002360" y="407664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1"/>
          <p:cNvSpPr/>
          <p:nvPr/>
        </p:nvSpPr>
        <p:spPr>
          <a:xfrm>
            <a:off x="7002360" y="494172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3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EFF9AAA8-33FD-4C86-951E-0E211AF6C1F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ue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1774080" y="477828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 implementation of a queue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561960" y="2211480"/>
            <a:ext cx="8020080" cy="243972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6804000" y="324648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3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44A1B3EA-821C-4030-95AF-8F18F88C5AB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ue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1774080" y="533412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 implementation of a queue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552600" y="1665360"/>
            <a:ext cx="8038800" cy="3531960"/>
          </a:xfrm>
          <a:prstGeom prst="rect">
            <a:avLst/>
          </a:prstGeom>
          <a:ln w="0">
            <a:noFill/>
          </a:ln>
        </p:spPr>
      </p:pic>
      <p:sp>
        <p:nvSpPr>
          <p:cNvPr id="427" name="TextBox 5"/>
          <p:cNvSpPr/>
          <p:nvPr/>
        </p:nvSpPr>
        <p:spPr>
          <a:xfrm>
            <a:off x="6732720" y="234936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6"/>
          <p:cNvSpPr/>
          <p:nvPr/>
        </p:nvSpPr>
        <p:spPr>
          <a:xfrm>
            <a:off x="6732720" y="406404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 the following topic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Study: Exiting a Maze [Self Reading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0C19596C-A4F8-499C-9BA3-66BC37E913E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Content Placeholder 1"/>
          <p:cNvSpPr/>
          <p:nvPr/>
        </p:nvSpPr>
        <p:spPr>
          <a:xfrm>
            <a:off x="762120" y="1341360"/>
            <a:ext cx="8130960" cy="34750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Queue&lt;T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java.util.LinkedList&lt;T&gt; list = new java.util.LinkedList&lt;T&gt;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Queu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clear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clea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isEmpty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ist.isEmpty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T firstEl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ist.getFirs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A950E63B-8E83-4552-8906-2A6A6C5875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ue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2461680" y="5013360"/>
            <a:ext cx="47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ed list implementation of a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7002360" y="249228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7013520" y="320364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7"/>
          <p:cNvSpPr/>
          <p:nvPr/>
        </p:nvSpPr>
        <p:spPr>
          <a:xfrm>
            <a:off x="7024680" y="400536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Content Placeholder 1"/>
          <p:cNvSpPr/>
          <p:nvPr/>
        </p:nvSpPr>
        <p:spPr>
          <a:xfrm>
            <a:off x="762120" y="1341360"/>
            <a:ext cx="8130960" cy="26416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T dequeu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ist.removeFirs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enqueue(T e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addLast(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toString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ist.toStr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74B65178-CFF7-4526-A0FF-2B7440731B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ue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1733400" y="4221000"/>
            <a:ext cx="618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ed list implementation of a queue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5"/>
          <p:cNvSpPr/>
          <p:nvPr/>
        </p:nvSpPr>
        <p:spPr>
          <a:xfrm>
            <a:off x="7002360" y="148428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7013520" y="220500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7024680" y="299736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3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A3E33D81-FBBC-431B-AABB-0721B810A3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ue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ueuing theor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when various scenarios are analyzed and models are built that use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922320" y="5478480"/>
            <a:ext cx="729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eries of operations executed on an abstract queue (a) and the queue implemented with an array (b) and with a linked list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5" descr=""/>
          <p:cNvPicPr/>
          <p:nvPr/>
        </p:nvPicPr>
        <p:blipFill>
          <a:blip r:embed="rId1"/>
          <a:stretch/>
        </p:blipFill>
        <p:spPr>
          <a:xfrm>
            <a:off x="376200" y="1500120"/>
            <a:ext cx="838980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3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FF47D61A-4C90-49E3-BDAE-72057679028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ue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3455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ueuing the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arious scenarios are analyzed and models are built that use queues for processing requests or other information in a predetermined sequence (ord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3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5D1B7DEC-423F-478E-8CD6-03251670072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ue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75160" y="547992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k One example: (a) data for number of arrived customers p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-minute interval and (b) transaction time in seconds per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7072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3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C1A17391-5E55-430E-A014-7047B826A83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ue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2101680" y="5299200"/>
            <a:ext cx="515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 One example: implement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Content Placeholder 1"/>
          <p:cNvSpPr/>
          <p:nvPr/>
        </p:nvSpPr>
        <p:spPr>
          <a:xfrm>
            <a:off x="468360" y="1341360"/>
            <a:ext cx="8424720" cy="3888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BankSimulation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java.util.Random rd = new java.util.Random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int Option(int percents[]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0, perc, choice = Math.abs(rd.nextInt()) % 100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perc = percents[0]; perc &lt; choice; perc += percents[i+1], i++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 args[]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arrivals = {15,20,25,10,30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service = {0,0,0,10,5,10,10,0,15,25,10,15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clerks = {0,0,0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erksSize = clerks.leng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ustomers, t, i, numOfMinutes = 100, 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axWait = 0.0, thereIsLine = 0.0, currWait =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&lt;Integer&gt; simulQ = new Queue&lt;Integer&gt;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3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A8920D7E-7231-4CAC-BE78-0E70301221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ue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1373040" y="4797360"/>
            <a:ext cx="66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 One example: implementation code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Content Placeholder 1"/>
          <p:cNvSpPr/>
          <p:nvPr/>
        </p:nvSpPr>
        <p:spPr>
          <a:xfrm>
            <a:off x="468360" y="1341360"/>
            <a:ext cx="8424720" cy="331164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t = 1; t &lt;= numOfMinutes; t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" t = " + 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 = 0; i &lt; clerksSize; i++)// after each minute subt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clerks[i] &lt; 60)         // at most 60 seconds from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erks[i] = 0;         // left to service the 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clerks[i] -= 60;       // customer by clerk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ers = Option(arrival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 = 0; i &lt; customers; i++) { // enqueue all new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Option(service)*10;     // (or rather servic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mulQ.enqueue(x);          // they requi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Wait += 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3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090D3834-A9F2-4097-AA4F-18B705FB8E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ue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428480" y="5565600"/>
            <a:ext cx="66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 One example: implementation code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ontent Placeholder 1"/>
          <p:cNvSpPr/>
          <p:nvPr/>
        </p:nvSpPr>
        <p:spPr>
          <a:xfrm>
            <a:off x="468360" y="1341360"/>
            <a:ext cx="8424720" cy="41752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equeue customers when clerks are availab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 = 0; i &lt; clerksSize &amp;&amp; !simulQ.isEmpty();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clerks[i] &lt; 6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simulQ.dequeue();  // assign more than one 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erks[i] += x;        // to a clerk if servic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Wait  -= x;        // is still below 60 se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!simulQ.isEmpty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reIsLine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f(" wait = %.1f", currWait/60.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maxWait &lt; currWa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Wait = currWa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System.out.print(" wait = 0;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3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C42E687D-85C1-4AAC-83E8-A9D4E9442C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ue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1373040" y="3213000"/>
            <a:ext cx="66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 One example: implementation code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Content Placeholder 1"/>
          <p:cNvSpPr/>
          <p:nvPr/>
        </p:nvSpPr>
        <p:spPr>
          <a:xfrm>
            <a:off x="468360" y="1557360"/>
            <a:ext cx="8424720" cy="1440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\nFor " + clerksSize + " clerks, there was a line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thereIsLine/numOfMinutes*100.0 + "% of the time;\n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"maximum wait time was " + maxWait/60.0 + " min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3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3FC2AEEF-5D78-40DE-95EC-E6CE9788032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ority Queu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ority 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can be assigned to enable a particular process, or event, to be executed out of sequence without affecting overall system ope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riority queues, elements are dequeued according to their priority and their current queue 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linear data structure that can be accessed only at one of its ends for storing and retriev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tack is called a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FO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: last in/first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42B2AA86-F942-4196-984E-2A5FB4C1E8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63F1B2CE-6455-4006-9220-B1D19598205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ority Queue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 queues can be represented by two variations of linked li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elements are entry ord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er is maintained by putting a new elem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its proper position according to its prio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ack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operations are needed to properly manage a stac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lear(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— Clear the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sEmpty(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— Check to see if the stack is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ush(el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— Put the elemen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the top of the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op(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— Take the topmost element from the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pEl(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— Return the topmost element in the stack without removing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88E9F184-06F4-46E5-9524-D971A56A2D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ack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1762200" y="2986200"/>
            <a:ext cx="5659200" cy="1531800"/>
          </a:xfrm>
          <a:prstGeom prst="rect">
            <a:avLst/>
          </a:prstGeom>
          <a:ln w="0">
            <a:noFill/>
          </a:ln>
        </p:spPr>
      </p:pic>
      <p:sp>
        <p:nvSpPr>
          <p:cNvPr id="295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FF7FAF66-6ED0-49D7-BB30-2F1664FBC49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138760" y="4687920"/>
            <a:ext cx="53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eries of operations executed on a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ack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341360"/>
            <a:ext cx="8130960" cy="464976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tack&lt;T&gt;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java.util.ArrayList&lt;T&gt; pool = new java.util.ArrayList&lt;T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ck(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ck(int n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ol.ensureCapacity(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clear(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ol.clear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isEmpty(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pool.isEmpty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T topEl(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isEmpty()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 new java.util.EmptyStackException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pool.get(pool.size()-1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3C121D48-B327-41DF-986A-E5AC3F4DF04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43120" y="605304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 list implementation of a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"/>
          <p:cNvSpPr/>
          <p:nvPr/>
        </p:nvSpPr>
        <p:spPr>
          <a:xfrm>
            <a:off x="4094280" y="324468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4094280" y="403848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8"/>
          <p:cNvSpPr/>
          <p:nvPr/>
        </p:nvSpPr>
        <p:spPr>
          <a:xfrm>
            <a:off x="4094280" y="475632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9"/>
          <p:cNvSpPr/>
          <p:nvPr/>
        </p:nvSpPr>
        <p:spPr>
          <a:xfrm>
            <a:off x="4456080" y="3244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0"/>
          <p:cNvSpPr/>
          <p:nvPr/>
        </p:nvSpPr>
        <p:spPr>
          <a:xfrm>
            <a:off x="4454640" y="40384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1"/>
          <p:cNvSpPr/>
          <p:nvPr/>
        </p:nvSpPr>
        <p:spPr>
          <a:xfrm>
            <a:off x="4454640" y="475632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Content Placeholder 1"/>
          <p:cNvSpPr/>
          <p:nvPr/>
        </p:nvSpPr>
        <p:spPr>
          <a:xfrm>
            <a:off x="762120" y="1341360"/>
            <a:ext cx="8130960" cy="33829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T pop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isEmpty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 new java.util.EmptyStackExcep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pool.remove(pool.size()-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push(T e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ol.add(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toString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pool.toStr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ack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BB3F419E-FD6F-48F9-9B52-022ABEC392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59760" y="4842000"/>
            <a:ext cx="59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 list implementation of a stack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7002360" y="170028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7"/>
          <p:cNvSpPr/>
          <p:nvPr/>
        </p:nvSpPr>
        <p:spPr>
          <a:xfrm>
            <a:off x="7002360" y="263700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8"/>
          <p:cNvSpPr/>
          <p:nvPr/>
        </p:nvSpPr>
        <p:spPr>
          <a:xfrm>
            <a:off x="7002360" y="350028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9"/>
          <p:cNvSpPr/>
          <p:nvPr/>
        </p:nvSpPr>
        <p:spPr>
          <a:xfrm>
            <a:off x="7362720" y="17002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0"/>
          <p:cNvSpPr/>
          <p:nvPr/>
        </p:nvSpPr>
        <p:spPr>
          <a:xfrm>
            <a:off x="7362720" y="263700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1"/>
          <p:cNvSpPr/>
          <p:nvPr/>
        </p:nvSpPr>
        <p:spPr>
          <a:xfrm>
            <a:off x="7362720" y="35002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Content Placeholder 1"/>
          <p:cNvSpPr/>
          <p:nvPr/>
        </p:nvSpPr>
        <p:spPr>
          <a:xfrm>
            <a:off x="762120" y="1341360"/>
            <a:ext cx="8130960" cy="39592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LStack&lt;T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java.util.LinkedList&lt;T&gt; list = new java.util.LinkedList&lt;T&gt;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LLStack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clear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clea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isEmpty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ist.isEmpty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T topEl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isEmpty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 new java.util.EmptyStackExcep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ist.getLas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acks (continued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DE27A182-F3C1-4A37-9D0F-8B06432636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2539440" y="544500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ing a stack as a linked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6"/>
          <p:cNvSpPr/>
          <p:nvPr/>
        </p:nvSpPr>
        <p:spPr>
          <a:xfrm>
            <a:off x="4211640" y="241308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7"/>
          <p:cNvSpPr/>
          <p:nvPr/>
        </p:nvSpPr>
        <p:spPr>
          <a:xfrm>
            <a:off x="4211640" y="328464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4211640" y="407664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4573440" y="2413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0"/>
          <p:cNvSpPr/>
          <p:nvPr/>
        </p:nvSpPr>
        <p:spPr>
          <a:xfrm>
            <a:off x="4572000" y="328464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1"/>
          <p:cNvSpPr/>
          <p:nvPr/>
        </p:nvSpPr>
        <p:spPr>
          <a:xfrm>
            <a:off x="4572000" y="407664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0T01:53:53Z</dcterms:created>
  <dc:creator>Win98</dc:creator>
  <dc:description/>
  <dc:language>en-US</dc:language>
  <cp:lastModifiedBy>Wasfi Al-Khatib</cp:lastModifiedBy>
  <dcterms:modified xsi:type="dcterms:W3CDTF">2012-09-24T05:53:20Z</dcterms:modified>
  <cp:revision>74</cp:revision>
  <dc:subject/>
  <dc:title>Slide 1</dc:title>
</cp:coreProperties>
</file>