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32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34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12.png" ContentType="image/png"/>
  <Override PartName="/ppt/media/image9.png" ContentType="image/png"/>
  <Override PartName="/ppt/media/image11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2941-C4B5-467D-BCE3-92150BDD3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E73F-34C7-4A69-BD68-4112F5215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6E1D-B598-4FCF-B2AC-E86811E60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E321-E8FA-4E3F-A15C-376464244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C5EA-5916-4B9C-86D1-11EE2C60E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CBAD-8610-414D-AC43-B92932339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BE91-79CE-4CD2-B680-4A40E5095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E7E1-F264-49E6-9681-9A9CB7728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E988-1ACE-43C2-A600-B90B95AE9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B072-451D-4F1A-A268-2469E5C75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D9C2-F24B-4FC3-B95E-34E8539A0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3167-784C-4225-B09E-0A3C1A52F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B699-959F-4739-A0BB-466C5B99E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2257-6058-4EC7-A83D-FCC94DE3B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E272-970F-4B30-9124-F9386C507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6FE3-3A05-4A84-A198-195EC4AA7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313E-29FC-46FC-ACFC-781C0D8DE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AF14-832B-4990-A7A7-6E6BB7B37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AC54-0E79-41E8-A819-7E44D8DF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5FC0-188A-493A-B6C4-17A44263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C08B-98CF-4C6A-9DED-7CAEFC76E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7F42-E23B-431E-9FFA-FE10DDCA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C279-A683-4043-B252-B1BBA9547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47B2-A385-41CB-8B35-29E961DC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81CA-CA72-4284-86D0-4723FC53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9EDB-772C-427E-A218-E3B0474F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4639-11D8-49E7-B5F8-EB3E5834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FE71-0574-4A97-8F7D-FBF9AE1F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5B8C-7F2E-45C7-9C3B-FCB4DE95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BD77-8E23-4CF6-BE88-BD016425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5403-5C39-4414-86E3-D86DC746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273C-31CF-414B-B4D2-5BBED389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5196-1C11-49DE-9DE5-12504EFF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9D4D-6668-4E03-9EC9-16A5EA466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1EE1-0954-4A1C-9661-9282A01C5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5CF57-06CD-4109-A229-C5C2A280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A80C3-1FEA-4F70-8641-4FFC4305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FF7F2-2213-42AE-B6E4-8DA151A7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B4CFD-F861-4B3A-A767-C03092E3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3F7FA-A499-45C0-AE7D-F12BD864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8D7E-070A-43F3-B4C8-0AD930D8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80981-44D4-4CD3-9FFB-6ADFB2D3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E3782-92DA-4B82-A64E-5EB2A729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48024-0ADE-4E84-90A0-678D836C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EE496-4962-4B95-88A9-43912BC8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A5844-0277-48CA-A4DD-87D06A66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302D9-CB79-43C1-97A2-B74AFCE4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2EEAD-4B24-45F8-A14D-373DDABA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49230-F23B-4079-AFF5-B0C0D296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547D8-892E-4273-8856-BE3C6511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C899D-21E5-4896-B05A-C223429F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07B4-CA5E-4557-AE27-4FE56F14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004DC-79A7-4F36-BBB2-D38E691F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D0793-8229-419B-BE80-6D01E172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B0D28-C390-41F4-81EA-1C951F90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AA7C2-93C4-4402-847F-37C2B204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C53A6-D53C-4029-ACE9-DEDBBDE7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36A48-21BF-49A0-BD24-76539165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108E2-1A97-47F0-AA13-E21A540F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B8326-888A-4FC5-B7C0-790200CF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4CA34-C6F6-4A2E-AD92-D31955E5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0CEF-241A-48BE-B283-C6938291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424E-3D5A-48A8-8FEC-6E93692B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74A4-FDC8-41EA-A8CF-D3DD8D9C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15E3-4822-478C-BA0A-63EB544B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7272-972C-4551-A1DE-D02FFA56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86440" y="25560"/>
            <a:ext cx="44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D55E-89BC-4599-8FEF-5CF4F0BE58D9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86440" y="25560"/>
            <a:ext cx="44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6D26-8708-4EE2-981D-D465D49A9B9E}" type="slidenum"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86440" y="25560"/>
            <a:ext cx="44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9E90-5D6A-4C05-B0CF-2D74BE5B812D}" type="slidenum"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86440" y="25560"/>
            <a:ext cx="44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9F33-812E-4A8F-952A-C10F7ADDD874}" type="slidenum"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2133720" y="2133720"/>
            <a:ext cx="6400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t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phs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21932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Fahd University of Petroleum &amp;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Computer Science &amp;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2592720" y="129528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&amp; Computer Science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Graph Terminolo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graph: A graph G =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) is a subgraph of H =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panning subgraph of G is a subgraph that contains all the vertices of 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panning tree of a connected graph is a spanning subgraph that is a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CAB8-C0B8-4D29-8D2E-367295C226A6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Graph Representations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ertic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ray or a linked list can be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dg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cy Matrix (Two-dimensional arra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cy List (One-dimensional array of linked lis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ed List (one list onl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idence Matrix (Two-dimensional arra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DBED-7F0B-4045-B71E-81296C26349B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djacency Matrix Representat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527040" y="5013360"/>
            <a:ext cx="3382920" cy="1306440"/>
          </a:xfrm>
          <a:prstGeom prst="rect">
            <a:avLst/>
          </a:prstGeom>
          <a:ln w="0">
            <a:noFill/>
          </a:ln>
        </p:spPr>
      </p:pic>
      <p:sp>
        <p:nvSpPr>
          <p:cNvPr id="230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B9B3-A122-474B-9A96-273AB794B560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5560" y="1310760"/>
            <a:ext cx="821844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7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cy Matrix uses a 2-D array of dimension |V|x|V| for edges. (For vertices, a 1-D array is us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31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7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esence or absence of an edge, (v, w) is indicated by the entry in row v, column w of the matri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31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7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unweighted graph, boolean values could be u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31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7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weighted graph, the actual weights are u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2"/>
          <a:stretch/>
        </p:blipFill>
        <p:spPr>
          <a:xfrm>
            <a:off x="4643280" y="5013360"/>
            <a:ext cx="352908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Notes on Adjacency Matrix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undirected graph, the adjacency matrix is always symmetri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 Simple Graph, all diagonal elements are zero (i.e. no edge from a vertex to itself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pace requirement of adjacency matrix is O(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- most of it wasted for a graph with few edg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ever, entries in the matrix can be accessed direct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E3F2-55B5-431E-B5C4-37225D79077B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8"/>
          <p:cNvGrpSpPr/>
          <p:nvPr/>
        </p:nvGrpSpPr>
        <p:grpSpPr>
          <a:xfrm>
            <a:off x="1549440" y="4865760"/>
            <a:ext cx="5975280" cy="1803240"/>
            <a:chOff x="1549440" y="4865760"/>
            <a:chExt cx="5975280" cy="1803240"/>
          </a:xfrm>
        </p:grpSpPr>
        <p:pic>
          <p:nvPicPr>
            <p:cNvPr id="237" name="Picture 4" descr=""/>
            <p:cNvPicPr/>
            <p:nvPr/>
          </p:nvPicPr>
          <p:blipFill>
            <a:blip r:embed="rId1"/>
            <a:stretch/>
          </p:blipFill>
          <p:spPr>
            <a:xfrm>
              <a:off x="1549440" y="4865760"/>
              <a:ext cx="5975280" cy="18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AutoShape 6"/>
            <p:cNvSpPr/>
            <p:nvPr/>
          </p:nvSpPr>
          <p:spPr>
            <a:xfrm>
              <a:off x="4623480" y="5316480"/>
              <a:ext cx="2641320" cy="70740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7"/>
            <p:cNvSpPr/>
            <p:nvPr/>
          </p:nvSpPr>
          <p:spPr>
            <a:xfrm flipH="1" flipV="1">
              <a:off x="4622760" y="5176080"/>
              <a:ext cx="2641320" cy="70704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djacency List Representat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331920" y="4554360"/>
            <a:ext cx="2030400" cy="1641600"/>
          </a:xfrm>
          <a:prstGeom prst="rect">
            <a:avLst/>
          </a:prstGeom>
          <a:ln w="0">
            <a:noFill/>
          </a:ln>
        </p:spPr>
      </p:pic>
      <p:sp>
        <p:nvSpPr>
          <p:cNvPr id="242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DAC8-0508-4EBD-BFAD-0282F1D4A40A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5920" y="1341000"/>
            <a:ext cx="81468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nvolves representing the set of vertices adjacent to each vertex as a list.  Thus, generating a set of lis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an be implemented in different way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r representation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ertices as a one dimensional arra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s as an array of linked list (the emanating edges of vertex 1 will be in the list of the first element, and so on, 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065400" y="4754520"/>
          <a:ext cx="577800" cy="1470240"/>
        </p:xfrm>
        <a:graphic>
          <a:graphicData uri="http://schemas.openxmlformats.org/drawingml/2006/table">
            <a:tbl>
              <a:tblPr/>
              <a:tblGrid>
                <a:gridCol w="577800"/>
              </a:tblGrid>
              <a:tr h="366840">
                <a:tc>
                  <a:txBody>
                    <a:bodyPr lIns="91800" rIns="91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1800" rIns="91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1800" rIns="91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1800" rIns="91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Text Box 38"/>
          <p:cNvSpPr/>
          <p:nvPr/>
        </p:nvSpPr>
        <p:spPr>
          <a:xfrm>
            <a:off x="2782440" y="412128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284720" y="4697280"/>
          <a:ext cx="576360" cy="1468440"/>
        </p:xfrm>
        <a:graphic>
          <a:graphicData uri="http://schemas.openxmlformats.org/drawingml/2006/table">
            <a:tbl>
              <a:tblPr/>
              <a:tblGrid>
                <a:gridCol w="576360"/>
              </a:tblGrid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Text Box 51"/>
          <p:cNvSpPr/>
          <p:nvPr/>
        </p:nvSpPr>
        <p:spPr>
          <a:xfrm>
            <a:off x="4963680" y="415764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078520" y="4740120"/>
          <a:ext cx="647640" cy="289080"/>
        </p:xfrm>
        <a:graphic>
          <a:graphicData uri="http://schemas.openxmlformats.org/drawingml/2006/table">
            <a:tbl>
              <a:tblPr/>
              <a:tblGrid>
                <a:gridCol w="430200"/>
                <a:gridCol w="217440"/>
              </a:tblGrid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5942160" y="4740120"/>
          <a:ext cx="647640" cy="289080"/>
        </p:xfrm>
        <a:graphic>
          <a:graphicData uri="http://schemas.openxmlformats.org/drawingml/2006/table">
            <a:tbl>
              <a:tblPr/>
              <a:tblGrid>
                <a:gridCol w="430200"/>
                <a:gridCol w="217440"/>
              </a:tblGrid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0" name="Line 77"/>
          <p:cNvSpPr/>
          <p:nvPr/>
        </p:nvSpPr>
        <p:spPr>
          <a:xfrm>
            <a:off x="4573440" y="48704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78"/>
          <p:cNvSpPr/>
          <p:nvPr/>
        </p:nvSpPr>
        <p:spPr>
          <a:xfrm>
            <a:off x="5581800" y="48798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79"/>
          <p:cNvSpPr/>
          <p:nvPr/>
        </p:nvSpPr>
        <p:spPr>
          <a:xfrm>
            <a:off x="6435720" y="48848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0"/>
          <p:cNvSpPr/>
          <p:nvPr/>
        </p:nvSpPr>
        <p:spPr>
          <a:xfrm>
            <a:off x="6760080" y="475920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5078520" y="5124600"/>
          <a:ext cx="647640" cy="288720"/>
        </p:xfrm>
        <a:graphic>
          <a:graphicData uri="http://schemas.openxmlformats.org/drawingml/2006/table">
            <a:tbl>
              <a:tblPr/>
              <a:tblGrid>
                <a:gridCol w="430200"/>
                <a:gridCol w="217440"/>
              </a:tblGrid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5942160" y="5124600"/>
          <a:ext cx="647640" cy="288720"/>
        </p:xfrm>
        <a:graphic>
          <a:graphicData uri="http://schemas.openxmlformats.org/drawingml/2006/table">
            <a:tbl>
              <a:tblPr/>
              <a:tblGrid>
                <a:gridCol w="430200"/>
                <a:gridCol w="217440"/>
              </a:tblGrid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Line 97"/>
          <p:cNvSpPr/>
          <p:nvPr/>
        </p:nvSpPr>
        <p:spPr>
          <a:xfrm>
            <a:off x="4573440" y="52545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98"/>
          <p:cNvSpPr/>
          <p:nvPr/>
        </p:nvSpPr>
        <p:spPr>
          <a:xfrm>
            <a:off x="5581800" y="526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99"/>
          <p:cNvSpPr/>
          <p:nvPr/>
        </p:nvSpPr>
        <p:spPr>
          <a:xfrm>
            <a:off x="6435720" y="52689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00"/>
          <p:cNvSpPr/>
          <p:nvPr/>
        </p:nvSpPr>
        <p:spPr>
          <a:xfrm>
            <a:off x="6760080" y="514368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078520" y="5845320"/>
          <a:ext cx="647640" cy="288720"/>
        </p:xfrm>
        <a:graphic>
          <a:graphicData uri="http://schemas.openxmlformats.org/drawingml/2006/table">
            <a:tbl>
              <a:tblPr/>
              <a:tblGrid>
                <a:gridCol w="430200"/>
                <a:gridCol w="217440"/>
              </a:tblGrid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6840360" y="5845320"/>
          <a:ext cx="648000" cy="288720"/>
        </p:xfrm>
        <a:graphic>
          <a:graphicData uri="http://schemas.openxmlformats.org/drawingml/2006/table">
            <a:tbl>
              <a:tblPr/>
              <a:tblGrid>
                <a:gridCol w="395640"/>
                <a:gridCol w="252360"/>
              </a:tblGrid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Line 117"/>
          <p:cNvSpPr/>
          <p:nvPr/>
        </p:nvSpPr>
        <p:spPr>
          <a:xfrm>
            <a:off x="4573440" y="5975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18"/>
          <p:cNvSpPr/>
          <p:nvPr/>
        </p:nvSpPr>
        <p:spPr>
          <a:xfrm>
            <a:off x="5581800" y="598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19"/>
          <p:cNvSpPr/>
          <p:nvPr/>
        </p:nvSpPr>
        <p:spPr>
          <a:xfrm>
            <a:off x="7334280" y="59896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0"/>
          <p:cNvSpPr/>
          <p:nvPr/>
        </p:nvSpPr>
        <p:spPr>
          <a:xfrm>
            <a:off x="7658640" y="586440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5969160" y="5850000"/>
          <a:ext cx="647640" cy="288720"/>
        </p:xfrm>
        <a:graphic>
          <a:graphicData uri="http://schemas.openxmlformats.org/drawingml/2006/table">
            <a:tbl>
              <a:tblPr/>
              <a:tblGrid>
                <a:gridCol w="403200"/>
                <a:gridCol w="244440"/>
              </a:tblGrid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Line 129"/>
          <p:cNvSpPr/>
          <p:nvPr/>
        </p:nvSpPr>
        <p:spPr>
          <a:xfrm>
            <a:off x="6472080" y="59896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30"/>
          <p:cNvSpPr/>
          <p:nvPr/>
        </p:nvSpPr>
        <p:spPr>
          <a:xfrm flipV="1">
            <a:off x="4573440" y="5614560"/>
            <a:ext cx="530280" cy="1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31"/>
          <p:cNvSpPr/>
          <p:nvPr/>
        </p:nvSpPr>
        <p:spPr>
          <a:xfrm>
            <a:off x="5066640" y="548964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mple List Representat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826920" y="3933720"/>
            <a:ext cx="1925640" cy="1555920"/>
          </a:xfrm>
          <a:prstGeom prst="rect">
            <a:avLst/>
          </a:prstGeom>
          <a:ln w="0">
            <a:noFill/>
          </a:ln>
        </p:spPr>
      </p:pic>
      <p:sp>
        <p:nvSpPr>
          <p:cNvPr id="272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0D10-7562-44A2-AB82-1708BD24EF89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85920" y="1341360"/>
            <a:ext cx="8146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tices are represented as a 1-D array or a linked l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are represented as one linked l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ch edge contains the information about its two verti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3090960" y="3646440"/>
          <a:ext cx="576000" cy="1468440"/>
        </p:xfrm>
        <a:graphic>
          <a:graphicData uri="http://schemas.openxmlformats.org/drawingml/2006/table">
            <a:tbl>
              <a:tblPr/>
              <a:tblGrid>
                <a:gridCol w="576000"/>
              </a:tblGrid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Text Box 17"/>
          <p:cNvSpPr/>
          <p:nvPr/>
        </p:nvSpPr>
        <p:spPr>
          <a:xfrm>
            <a:off x="2782440" y="321300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0"/>
          <p:cNvSpPr/>
          <p:nvPr/>
        </p:nvSpPr>
        <p:spPr>
          <a:xfrm>
            <a:off x="4963680" y="32130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930920" y="3716280"/>
          <a:ext cx="1081080" cy="2133720"/>
        </p:xfrm>
        <a:graphic>
          <a:graphicData uri="http://schemas.openxmlformats.org/drawingml/2006/table">
            <a:tbl>
              <a:tblPr/>
              <a:tblGrid>
                <a:gridCol w="10810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ge(1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ge(1,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ge(2,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ge(2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ge(4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ge(4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ge(4,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 Box 122"/>
          <p:cNvSpPr/>
          <p:nvPr/>
        </p:nvSpPr>
        <p:spPr>
          <a:xfrm>
            <a:off x="3267000" y="5310360"/>
            <a:ext cx="223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23"/>
          <p:cNvSpPr/>
          <p:nvPr/>
        </p:nvSpPr>
        <p:spPr>
          <a:xfrm>
            <a:off x="5426280" y="5877000"/>
            <a:ext cx="223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idence Matrix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Slide Number Placeholder 2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D0B8-5845-447E-AD08-837E9B70CD0B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1"/>
          <a:srcRect l="46245" t="5186" r="0" b="13223"/>
          <a:stretch/>
        </p:blipFill>
        <p:spPr>
          <a:xfrm>
            <a:off x="2297160" y="4221000"/>
            <a:ext cx="4048200" cy="210060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3"/>
          <p:cNvSpPr/>
          <p:nvPr/>
        </p:nvSpPr>
        <p:spPr>
          <a:xfrm>
            <a:off x="385920" y="1341360"/>
            <a:ext cx="8146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ach row represents a vertex and each column represent an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(|V|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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|E|)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ntries of the matrix can be 0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ison between the Adjacency List and the Adjacency Matrix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8604360" y="39600"/>
            <a:ext cx="44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CA4B-1860-4E75-BAED-7ED07FB33888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611280" y="1486440"/>
            <a:ext cx="7993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re an edge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trix: O(1)     check value at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st: O(n)          index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traverse list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ge insertion or de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trix: O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st: O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Get successor vertices of a vert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Matrix: O(n)      scan a r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st: O(n)          traverse a link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predecessor vertices of a vert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Matrix: O(n)      scan a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st: O(n + m)   traverse all linked lists, which could be as ba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= O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 all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trix: O(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st:      O(n +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trix: O(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st: O(n +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1116000" y="98100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Graph G(V, E), let |V| = n   and |E| =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Review Question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2438280" cy="1695600"/>
          </a:xfrm>
          <a:prstGeom prst="rect">
            <a:avLst/>
          </a:prstGeom>
          <a:ln w="0">
            <a:noFill/>
          </a:ln>
        </p:spPr>
      </p:pic>
      <p:sp>
        <p:nvSpPr>
          <p:cNvPr id="290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74FF-BA2E-4E92-A2BC-A615EEF4A2B1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6" descr=""/>
          <p:cNvPicPr/>
          <p:nvPr/>
        </p:nvPicPr>
        <p:blipFill>
          <a:blip r:embed="rId2"/>
          <a:stretch/>
        </p:blipFill>
        <p:spPr>
          <a:xfrm>
            <a:off x="5003640" y="1341360"/>
            <a:ext cx="2362320" cy="16858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46040" y="3284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00"/>
              </a:spcBef>
              <a:buClr>
                <a:srgbClr val="009242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sider the undirected graph GA shown above.  List the elements of  V and  E. Then, for each vertex  v in V, do the following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349"/>
              </a:spcBef>
              <a:buClr>
                <a:srgbClr val="ffc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ute the in-degree of v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349"/>
              </a:spcBef>
              <a:buClr>
                <a:srgbClr val="ffc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ute the out-degree of v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349"/>
              </a:spcBef>
              <a:buClr>
                <a:srgbClr val="ffc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ist the elements of A(v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349"/>
              </a:spcBef>
              <a:buClr>
                <a:srgbClr val="ffc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ist the elements of I(v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009242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sider the undirected graph GA shown abov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349"/>
              </a:spcBef>
              <a:buClr>
                <a:srgbClr val="ffc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how how the graph is represented using adjacency matrix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349"/>
              </a:spcBef>
              <a:buClr>
                <a:srgbClr val="ffc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how how the graph is represented using adjacency list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009242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epeat Exercises 1 and 2 for the directed graph GB shown abov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ahoma"/>
              </a:rPr>
              <a:t>Graph Traversal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 Traversal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th-First Traversal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gorith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eadth-First Travers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view Ques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231A-30BD-41AA-B586-8EA27D13B817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s and Algorithms in Java”, 3rd Edition, Adam Drozdek, Cengage Learning, ISBN 978-981423923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pter 8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tion 8.1: Graph Representat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tion 8.2: Graph Traversa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tion 8.7: Topological Sor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ing Assig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-18108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neral Traversal Algorith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468360" y="1265400"/>
            <a:ext cx="8229600" cy="20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algorithm ensures that all vertices are visited in the grap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his is certainly important in the case where the graph is disconnected (in the case of undirected graphs) or not strongly connected (in the case of directed graph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ethod call doTraverse is replaced with all the subsequent traversal methods discus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dfsPreorder, dfsPostorder, BreadthFir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879480" y="3616200"/>
            <a:ext cx="822960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GraphTraversal (Graph 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1f497d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for each vertex v </a:t>
            </a:r>
            <a:r>
              <a:rPr b="0" lang="en-US" sz="2000" spc="-1" strike="noStrike">
                <a:solidFill>
                  <a:srgbClr val="1f497d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 G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1f497d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mark v as unvisit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1f497d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for each vertex v </a:t>
            </a:r>
            <a:r>
              <a:rPr b="0" lang="en-US" sz="2000" spc="-1" strike="noStrike">
                <a:solidFill>
                  <a:srgbClr val="1f497d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 G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1f497d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if v is marked as unvis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1f497d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doTraverse(G, v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DCA9-83F3-4AE7-ADA3-158DB0B44566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240" y="1155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Depth-First Traversal Algorithm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F69B-5CFA-4E1C-B523-E5A8DCF80F9F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914400" y="102384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is method, After visiting a vertex v, which is adjacent to w1, w2, w3, ...;  Next we visit one of v's adjacent vertices, w1 say.  Next, we visit all vertices adjacent to w1 before coming back to w2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70000"/>
              </a:lnSpc>
              <a:spcBef>
                <a:spcPts val="300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7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st keep track of vertices already visited to avoid cyc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70000"/>
              </a:lnSpc>
              <a:spcBef>
                <a:spcPts val="34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7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ethod can be implemented using recursion or iter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70000"/>
              </a:lnSpc>
              <a:spcBef>
                <a:spcPts val="34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7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iterative preorder depth-first algorithm i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57160" y="3284640"/>
            <a:ext cx="774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1f497d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push the starting vertex, v, onto the stac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f497d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while(stack is not empty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f497d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pop vertex v off the stac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f497d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if v is not visited, visit v and mark it as visit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f497d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for each vertex w adjacent to v that is not marked visited do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f497d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push w onto the stack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f497d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539640" y="6093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Adjacent vertices can be pushed in any order; but to obtain a unique traversal, we will push them in reverse alphabetical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F45C-D466-4F5E-BD92-3B29AD5AE3C8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25200" y="1052640"/>
            <a:ext cx="82184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monstrates depth-first traversal using an explicit stac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2058840" y="2060640"/>
            <a:ext cx="3889440" cy="31446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"/>
          <p:cNvPicPr/>
          <p:nvPr/>
        </p:nvPicPr>
        <p:blipFill>
          <a:blip r:embed="rId2"/>
          <a:stretch/>
        </p:blipFill>
        <p:spPr>
          <a:xfrm>
            <a:off x="2058840" y="5346720"/>
            <a:ext cx="4241880" cy="7286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"/>
          <p:cNvPicPr/>
          <p:nvPr/>
        </p:nvPicPr>
        <p:blipFill>
          <a:blip r:embed="rId3"/>
          <a:stretch/>
        </p:blipFill>
        <p:spPr>
          <a:xfrm>
            <a:off x="6624720" y="2127240"/>
            <a:ext cx="701640" cy="345744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11"/>
          <p:cNvSpPr/>
          <p:nvPr/>
        </p:nvSpPr>
        <p:spPr>
          <a:xfrm>
            <a:off x="754920" y="5362560"/>
            <a:ext cx="124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ver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2"/>
          <p:cNvSpPr/>
          <p:nvPr/>
        </p:nvSpPr>
        <p:spPr>
          <a:xfrm>
            <a:off x="6606000" y="56196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2149200" y="5603760"/>
            <a:ext cx="400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   B    C    F     E    G    D    H   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ve Preorder Depth-First Traversal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FF28-E8AD-4041-BB1E-160581FC2BA0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611280" y="2708280"/>
            <a:ext cx="777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dfsPreorder(G, v)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visit v; mark v as visited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for each adjacent vertex w of v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if (w has not been marked as visited)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dfsPreorder(G, w)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58560" y="43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ursive Preorder Depth-First Traversal (Exampl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88ED-0023-4B2B-B36D-8DCFE8444296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539640" y="907920"/>
            <a:ext cx="8425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dfsT"/>
          <p:cNvPicPr/>
          <p:nvPr/>
        </p:nvPicPr>
        <p:blipFill>
          <a:blip r:embed="rId1"/>
          <a:stretch/>
        </p:blipFill>
        <p:spPr>
          <a:xfrm>
            <a:off x="0" y="907920"/>
            <a:ext cx="6227640" cy="58993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6" descr="theGraph"/>
          <p:cNvPicPr/>
          <p:nvPr/>
        </p:nvPicPr>
        <p:blipFill>
          <a:blip r:embed="rId2"/>
          <a:stretch/>
        </p:blipFill>
        <p:spPr>
          <a:xfrm>
            <a:off x="6176880" y="925560"/>
            <a:ext cx="2571840" cy="2143080"/>
          </a:xfrm>
          <a:prstGeom prst="rect">
            <a:avLst/>
          </a:prstGeom>
          <a:ln w="0">
            <a:noFill/>
          </a:ln>
        </p:spPr>
      </p:pic>
      <p:sp>
        <p:nvSpPr>
          <p:cNvPr id="323" name="Oval 9"/>
          <p:cNvSpPr/>
          <p:nvPr/>
        </p:nvSpPr>
        <p:spPr>
          <a:xfrm>
            <a:off x="6929280" y="4286160"/>
            <a:ext cx="214560" cy="21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7715160" y="4286160"/>
            <a:ext cx="214560" cy="21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1"/>
          <p:cNvSpPr/>
          <p:nvPr/>
        </p:nvSpPr>
        <p:spPr>
          <a:xfrm>
            <a:off x="8501040" y="4286160"/>
            <a:ext cx="214200" cy="21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2"/>
          <p:cNvSpPr/>
          <p:nvPr/>
        </p:nvSpPr>
        <p:spPr>
          <a:xfrm>
            <a:off x="6929280" y="5000760"/>
            <a:ext cx="214560" cy="214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3"/>
          <p:cNvSpPr/>
          <p:nvPr/>
        </p:nvSpPr>
        <p:spPr>
          <a:xfrm>
            <a:off x="7715160" y="5000760"/>
            <a:ext cx="214560" cy="214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8501040" y="5000760"/>
            <a:ext cx="214200" cy="214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5"/>
          <p:cNvSpPr/>
          <p:nvPr/>
        </p:nvSpPr>
        <p:spPr>
          <a:xfrm>
            <a:off x="6929280" y="5786280"/>
            <a:ext cx="214560" cy="21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6"/>
          <p:cNvSpPr/>
          <p:nvPr/>
        </p:nvSpPr>
        <p:spPr>
          <a:xfrm>
            <a:off x="7715160" y="5786280"/>
            <a:ext cx="214560" cy="21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7"/>
          <p:cNvSpPr/>
          <p:nvPr/>
        </p:nvSpPr>
        <p:spPr>
          <a:xfrm>
            <a:off x="8501040" y="5786280"/>
            <a:ext cx="214200" cy="21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Straight Arrow Connector 19"/>
          <p:cNvCxnSpPr>
            <a:stCxn id="323" idx="6"/>
            <a:endCxn id="324" idx="2"/>
          </p:cNvCxnSpPr>
          <p:nvPr/>
        </p:nvCxnSpPr>
        <p:spPr>
          <a:xfrm>
            <a:off x="7143480" y="4393800"/>
            <a:ext cx="5720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3" name="Straight Arrow Connector 21"/>
          <p:cNvCxnSpPr>
            <a:stCxn id="324" idx="6"/>
            <a:endCxn id="325" idx="2"/>
          </p:cNvCxnSpPr>
          <p:nvPr/>
        </p:nvCxnSpPr>
        <p:spPr>
          <a:xfrm>
            <a:off x="7929360" y="4393800"/>
            <a:ext cx="5720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4" name="Straight Arrow Connector 23"/>
          <p:cNvCxnSpPr>
            <a:stCxn id="325" idx="4"/>
            <a:endCxn id="328" idx="0"/>
          </p:cNvCxnSpPr>
          <p:nvPr/>
        </p:nvCxnSpPr>
        <p:spPr>
          <a:xfrm flipH="1">
            <a:off x="8607240" y="4501800"/>
            <a:ext cx="216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5" name="Straight Arrow Connector 27"/>
          <p:cNvCxnSpPr>
            <a:stCxn id="324" idx="4"/>
            <a:endCxn id="327" idx="0"/>
          </p:cNvCxnSpPr>
          <p:nvPr/>
        </p:nvCxnSpPr>
        <p:spPr>
          <a:xfrm flipH="1">
            <a:off x="7821360" y="4501800"/>
            <a:ext cx="216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6" name="Straight Arrow Connector 29"/>
          <p:cNvCxnSpPr>
            <a:stCxn id="327" idx="3"/>
            <a:endCxn id="329" idx="7"/>
          </p:cNvCxnSpPr>
          <p:nvPr/>
        </p:nvCxnSpPr>
        <p:spPr>
          <a:xfrm flipH="1">
            <a:off x="7111440" y="5183280"/>
            <a:ext cx="635400" cy="63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7" name="Straight Arrow Connector 31"/>
          <p:cNvCxnSpPr>
            <a:stCxn id="329" idx="0"/>
            <a:endCxn id="326" idx="4"/>
          </p:cNvCxnSpPr>
          <p:nvPr/>
        </p:nvCxnSpPr>
        <p:spPr>
          <a:xfrm flipV="1">
            <a:off x="7035840" y="5216040"/>
            <a:ext cx="216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8" name="Straight Arrow Connector 33"/>
          <p:cNvCxnSpPr>
            <a:stCxn id="329" idx="6"/>
            <a:endCxn id="330" idx="2"/>
          </p:cNvCxnSpPr>
          <p:nvPr/>
        </p:nvCxnSpPr>
        <p:spPr>
          <a:xfrm>
            <a:off x="7143480" y="5893920"/>
            <a:ext cx="5720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9" name="Straight Arrow Connector 35"/>
          <p:cNvCxnSpPr>
            <a:stCxn id="330" idx="6"/>
            <a:endCxn id="331" idx="2"/>
          </p:cNvCxnSpPr>
          <p:nvPr/>
        </p:nvCxnSpPr>
        <p:spPr>
          <a:xfrm>
            <a:off x="7929360" y="5893920"/>
            <a:ext cx="5720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0" name="Text Box 7"/>
          <p:cNvSpPr/>
          <p:nvPr/>
        </p:nvSpPr>
        <p:spPr>
          <a:xfrm>
            <a:off x="5572080" y="3429000"/>
            <a:ext cx="357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eorder Depth First Traversal Tree is shown bel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32000" y="151920"/>
            <a:ext cx="7619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ursive Postorder Depth-First Traversal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7323-CF38-43F2-BCBD-BA9D8555CB40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826920" y="2349360"/>
            <a:ext cx="7490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dfsPostorder(G, v)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mark v as visited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for(each neighbour w of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if(w is not marked visi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dfsPostorder(G, w)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visit v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ursive postorder Depth-First Traversal (Exampl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C7FB-BD46-4066-A436-E68638FF088E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539640" y="692280"/>
            <a:ext cx="842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6" descr="theGraph"/>
          <p:cNvPicPr/>
          <p:nvPr/>
        </p:nvPicPr>
        <p:blipFill>
          <a:blip r:embed="rId1"/>
          <a:stretch/>
        </p:blipFill>
        <p:spPr>
          <a:xfrm>
            <a:off x="6300720" y="998640"/>
            <a:ext cx="2571840" cy="21430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dfsPost"/>
          <p:cNvPicPr/>
          <p:nvPr/>
        </p:nvPicPr>
        <p:blipFill>
          <a:blip r:embed="rId2"/>
          <a:stretch/>
        </p:blipFill>
        <p:spPr>
          <a:xfrm>
            <a:off x="0" y="988920"/>
            <a:ext cx="5940360" cy="5824800"/>
          </a:xfrm>
          <a:prstGeom prst="rect">
            <a:avLst/>
          </a:prstGeom>
          <a:ln w="0">
            <a:noFill/>
          </a:ln>
        </p:spPr>
      </p:pic>
      <p:grpSp>
        <p:nvGrpSpPr>
          <p:cNvPr id="350" name="Group 27"/>
          <p:cNvGrpSpPr/>
          <p:nvPr/>
        </p:nvGrpSpPr>
        <p:grpSpPr>
          <a:xfrm>
            <a:off x="6929280" y="4286160"/>
            <a:ext cx="1785960" cy="1714680"/>
            <a:chOff x="6929280" y="4286160"/>
            <a:chExt cx="1785960" cy="1714680"/>
          </a:xfrm>
        </p:grpSpPr>
        <p:sp>
          <p:nvSpPr>
            <p:cNvPr id="351" name="Oval 9"/>
            <p:cNvSpPr/>
            <p:nvPr/>
          </p:nvSpPr>
          <p:spPr>
            <a:xfrm>
              <a:off x="6929280" y="4286160"/>
              <a:ext cx="214200" cy="21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10"/>
            <p:cNvSpPr/>
            <p:nvPr/>
          </p:nvSpPr>
          <p:spPr>
            <a:xfrm>
              <a:off x="7715160" y="4286160"/>
              <a:ext cx="214200" cy="21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11"/>
            <p:cNvSpPr/>
            <p:nvPr/>
          </p:nvSpPr>
          <p:spPr>
            <a:xfrm>
              <a:off x="8501040" y="4286160"/>
              <a:ext cx="214200" cy="21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12"/>
            <p:cNvSpPr/>
            <p:nvPr/>
          </p:nvSpPr>
          <p:spPr>
            <a:xfrm>
              <a:off x="6929280" y="5000760"/>
              <a:ext cx="214200" cy="21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3"/>
            <p:cNvSpPr/>
            <p:nvPr/>
          </p:nvSpPr>
          <p:spPr>
            <a:xfrm>
              <a:off x="7715160" y="5000760"/>
              <a:ext cx="214200" cy="21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4"/>
            <p:cNvSpPr/>
            <p:nvPr/>
          </p:nvSpPr>
          <p:spPr>
            <a:xfrm>
              <a:off x="8501040" y="5000760"/>
              <a:ext cx="214200" cy="21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5"/>
            <p:cNvSpPr/>
            <p:nvPr/>
          </p:nvSpPr>
          <p:spPr>
            <a:xfrm>
              <a:off x="6929280" y="5786640"/>
              <a:ext cx="214200" cy="21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6"/>
            <p:cNvSpPr/>
            <p:nvPr/>
          </p:nvSpPr>
          <p:spPr>
            <a:xfrm>
              <a:off x="7715160" y="5786640"/>
              <a:ext cx="214200" cy="21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7"/>
            <p:cNvSpPr/>
            <p:nvPr/>
          </p:nvSpPr>
          <p:spPr>
            <a:xfrm>
              <a:off x="8501040" y="5786640"/>
              <a:ext cx="214200" cy="21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0" name="Straight Arrow Connector 18"/>
            <p:cNvCxnSpPr>
              <a:stCxn id="351" idx="6"/>
              <a:endCxn id="352" idx="2"/>
            </p:cNvCxnSpPr>
            <p:nvPr/>
          </p:nvCxnSpPr>
          <p:spPr>
            <a:xfrm>
              <a:off x="7143120" y="4393080"/>
              <a:ext cx="5720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61" name="Straight Arrow Connector 19"/>
            <p:cNvCxnSpPr>
              <a:stCxn id="352" idx="6"/>
              <a:endCxn id="353" idx="2"/>
            </p:cNvCxnSpPr>
            <p:nvPr/>
          </p:nvCxnSpPr>
          <p:spPr>
            <a:xfrm>
              <a:off x="7929000" y="4393080"/>
              <a:ext cx="5720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62" name="Straight Arrow Connector 20"/>
            <p:cNvCxnSpPr>
              <a:stCxn id="353" idx="4"/>
              <a:endCxn id="356" idx="0"/>
            </p:cNvCxnSpPr>
            <p:nvPr/>
          </p:nvCxnSpPr>
          <p:spPr>
            <a:xfrm flipH="1">
              <a:off x="8607240" y="4500720"/>
              <a:ext cx="2160" cy="500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63" name="Straight Arrow Connector 21"/>
            <p:cNvCxnSpPr>
              <a:stCxn id="352" idx="4"/>
              <a:endCxn id="355" idx="0"/>
            </p:cNvCxnSpPr>
            <p:nvPr/>
          </p:nvCxnSpPr>
          <p:spPr>
            <a:xfrm flipH="1">
              <a:off x="7821000" y="4500720"/>
              <a:ext cx="2160" cy="500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64" name="Straight Arrow Connector 22"/>
            <p:cNvCxnSpPr>
              <a:stCxn id="355" idx="3"/>
              <a:endCxn id="357" idx="7"/>
            </p:cNvCxnSpPr>
            <p:nvPr/>
          </p:nvCxnSpPr>
          <p:spPr>
            <a:xfrm flipH="1">
              <a:off x="7111800" y="5183640"/>
              <a:ext cx="635040" cy="635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65" name="Straight Arrow Connector 23"/>
            <p:cNvCxnSpPr>
              <a:stCxn id="357" idx="0"/>
              <a:endCxn id="354" idx="4"/>
            </p:cNvCxnSpPr>
            <p:nvPr/>
          </p:nvCxnSpPr>
          <p:spPr>
            <a:xfrm flipV="1">
              <a:off x="7035480" y="5214960"/>
              <a:ext cx="2160" cy="57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66" name="Straight Arrow Connector 24"/>
            <p:cNvCxnSpPr>
              <a:stCxn id="357" idx="6"/>
              <a:endCxn id="358" idx="2"/>
            </p:cNvCxnSpPr>
            <p:nvPr/>
          </p:nvCxnSpPr>
          <p:spPr>
            <a:xfrm>
              <a:off x="7143120" y="5893920"/>
              <a:ext cx="5720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67" name="Straight Arrow Connector 25"/>
            <p:cNvCxnSpPr>
              <a:stCxn id="358" idx="6"/>
              <a:endCxn id="359" idx="2"/>
            </p:cNvCxnSpPr>
            <p:nvPr/>
          </p:nvCxnSpPr>
          <p:spPr>
            <a:xfrm>
              <a:off x="7929000" y="5893920"/>
              <a:ext cx="5720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368" name="Text Box 7"/>
          <p:cNvSpPr/>
          <p:nvPr/>
        </p:nvSpPr>
        <p:spPr>
          <a:xfrm>
            <a:off x="5572080" y="3429000"/>
            <a:ext cx="357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ostorder Depth First Traversal Tree is shown bel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Breadth-First Traversal Algorithm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5057-55EB-4C1D-9032-16A7943C5572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19120" y="123984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5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this method, After visiting a vertex v, we must visit all its adjacent vertices w1, w2, w3, ...,  before going down next level to visit vertices adjacent to w1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method can be implemented using a que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boolean array is used to ensure that a vertex is enqueued only o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611280" y="3703680"/>
            <a:ext cx="8145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BreadthFirst(G,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1  enqueue the starting vertex v; mark it as visit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2  while(queue is not empty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3       dequeue a vertex v from the que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4        visit v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f497d"/>
              </a:buClr>
              <a:buFont typeface="Arial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enqueue vertices adjacent to v that are not marked visit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f497d"/>
              </a:buClr>
              <a:buFont typeface="Arial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612720" y="6094440"/>
            <a:ext cx="83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Adjacent vertices can be enqueued in any order; but to obtain a unique traversal, we will enqueue them in alphabetical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6330-31BF-47AD-8E63-871D11A97552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14400" y="11253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monstrating breadth-first traversal using a que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7" name="Picture 7" descr=""/>
          <p:cNvPicPr/>
          <p:nvPr/>
        </p:nvPicPr>
        <p:blipFill>
          <a:blip r:embed="rId1"/>
          <a:stretch/>
        </p:blipFill>
        <p:spPr>
          <a:xfrm>
            <a:off x="1387440" y="2000160"/>
            <a:ext cx="3889440" cy="31449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8" descr=""/>
          <p:cNvPicPr/>
          <p:nvPr/>
        </p:nvPicPr>
        <p:blipFill>
          <a:blip r:embed="rId2"/>
          <a:stretch/>
        </p:blipFill>
        <p:spPr>
          <a:xfrm>
            <a:off x="1387440" y="5300640"/>
            <a:ext cx="4256280" cy="7318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9" descr=""/>
          <p:cNvPicPr/>
          <p:nvPr/>
        </p:nvPicPr>
        <p:blipFill>
          <a:blip r:embed="rId3"/>
          <a:stretch/>
        </p:blipFill>
        <p:spPr>
          <a:xfrm>
            <a:off x="7858080" y="2054160"/>
            <a:ext cx="731880" cy="348768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10"/>
          <p:cNvSpPr/>
          <p:nvPr/>
        </p:nvSpPr>
        <p:spPr>
          <a:xfrm>
            <a:off x="83520" y="5302080"/>
            <a:ext cx="124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ver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7533000" y="555948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ue r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2"/>
          <p:cNvSpPr/>
          <p:nvPr/>
        </p:nvSpPr>
        <p:spPr>
          <a:xfrm>
            <a:off x="1337400" y="5543640"/>
            <a:ext cx="400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   B    D    E     C    G    F    H   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3"/>
          <p:cNvSpPr/>
          <p:nvPr/>
        </p:nvSpPr>
        <p:spPr>
          <a:xfrm>
            <a:off x="7457040" y="177336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ue 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17"/>
          <p:cNvSpPr/>
          <p:nvPr/>
        </p:nvSpPr>
        <p:spPr>
          <a:xfrm>
            <a:off x="5813280" y="3929040"/>
            <a:ext cx="214560" cy="214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18"/>
          <p:cNvSpPr/>
          <p:nvPr/>
        </p:nvSpPr>
        <p:spPr>
          <a:xfrm>
            <a:off x="6599160" y="3929040"/>
            <a:ext cx="214560" cy="214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19"/>
          <p:cNvSpPr/>
          <p:nvPr/>
        </p:nvSpPr>
        <p:spPr>
          <a:xfrm>
            <a:off x="7385040" y="3929040"/>
            <a:ext cx="214200" cy="214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20"/>
          <p:cNvSpPr/>
          <p:nvPr/>
        </p:nvSpPr>
        <p:spPr>
          <a:xfrm>
            <a:off x="5813280" y="4643280"/>
            <a:ext cx="214560" cy="21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21"/>
          <p:cNvSpPr/>
          <p:nvPr/>
        </p:nvSpPr>
        <p:spPr>
          <a:xfrm>
            <a:off x="6599160" y="4643280"/>
            <a:ext cx="214560" cy="21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22"/>
          <p:cNvSpPr/>
          <p:nvPr/>
        </p:nvSpPr>
        <p:spPr>
          <a:xfrm>
            <a:off x="7385040" y="4643280"/>
            <a:ext cx="214200" cy="21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23"/>
          <p:cNvSpPr/>
          <p:nvPr/>
        </p:nvSpPr>
        <p:spPr>
          <a:xfrm>
            <a:off x="5813280" y="5429160"/>
            <a:ext cx="214560" cy="21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24"/>
          <p:cNvSpPr/>
          <p:nvPr/>
        </p:nvSpPr>
        <p:spPr>
          <a:xfrm>
            <a:off x="6599160" y="5429160"/>
            <a:ext cx="214560" cy="21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25"/>
          <p:cNvSpPr/>
          <p:nvPr/>
        </p:nvSpPr>
        <p:spPr>
          <a:xfrm>
            <a:off x="7385040" y="5429160"/>
            <a:ext cx="214200" cy="21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3" name="Straight Arrow Connector 26"/>
          <p:cNvCxnSpPr>
            <a:stCxn id="384" idx="6"/>
            <a:endCxn id="385" idx="2"/>
          </p:cNvCxnSpPr>
          <p:nvPr/>
        </p:nvCxnSpPr>
        <p:spPr>
          <a:xfrm>
            <a:off x="6027480" y="4037040"/>
            <a:ext cx="572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4" name="Text Box 7"/>
          <p:cNvSpPr/>
          <p:nvPr/>
        </p:nvSpPr>
        <p:spPr>
          <a:xfrm>
            <a:off x="5670720" y="256536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readth-firstTraversal Tree is shown bel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Straight Arrow Connector 36"/>
          <p:cNvCxnSpPr>
            <a:stCxn id="384" idx="4"/>
            <a:endCxn id="387" idx="0"/>
          </p:cNvCxnSpPr>
          <p:nvPr/>
        </p:nvCxnSpPr>
        <p:spPr>
          <a:xfrm flipH="1">
            <a:off x="5919480" y="4144680"/>
            <a:ext cx="216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6" name="Straight Arrow Connector 38"/>
          <p:cNvCxnSpPr>
            <a:stCxn id="384" idx="5"/>
            <a:endCxn id="388" idx="1"/>
          </p:cNvCxnSpPr>
          <p:nvPr/>
        </p:nvCxnSpPr>
        <p:spPr>
          <a:xfrm>
            <a:off x="5995080" y="4111560"/>
            <a:ext cx="635400" cy="564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7" name="Straight Arrow Connector 40"/>
          <p:cNvCxnSpPr>
            <a:stCxn id="385" idx="6"/>
            <a:endCxn id="386" idx="2"/>
          </p:cNvCxnSpPr>
          <p:nvPr/>
        </p:nvCxnSpPr>
        <p:spPr>
          <a:xfrm>
            <a:off x="6813360" y="4037040"/>
            <a:ext cx="572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8" name="Straight Arrow Connector 42"/>
          <p:cNvCxnSpPr>
            <a:stCxn id="386" idx="4"/>
            <a:endCxn id="389" idx="0"/>
          </p:cNvCxnSpPr>
          <p:nvPr/>
        </p:nvCxnSpPr>
        <p:spPr>
          <a:xfrm flipH="1">
            <a:off x="7490520" y="4144680"/>
            <a:ext cx="252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9" name="Straight Arrow Connector 44"/>
          <p:cNvCxnSpPr>
            <a:stCxn id="387" idx="4"/>
            <a:endCxn id="390" idx="0"/>
          </p:cNvCxnSpPr>
          <p:nvPr/>
        </p:nvCxnSpPr>
        <p:spPr>
          <a:xfrm flipH="1">
            <a:off x="5919480" y="4859280"/>
            <a:ext cx="216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0" name="Straight Arrow Connector 46"/>
          <p:cNvCxnSpPr>
            <a:stCxn id="390" idx="6"/>
            <a:endCxn id="391" idx="2"/>
          </p:cNvCxnSpPr>
          <p:nvPr/>
        </p:nvCxnSpPr>
        <p:spPr>
          <a:xfrm>
            <a:off x="6027480" y="5536800"/>
            <a:ext cx="5720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1" name="Straight Arrow Connector 48"/>
          <p:cNvCxnSpPr>
            <a:stCxn id="391" idx="6"/>
            <a:endCxn id="392" idx="2"/>
          </p:cNvCxnSpPr>
          <p:nvPr/>
        </p:nvCxnSpPr>
        <p:spPr>
          <a:xfrm>
            <a:off x="6813360" y="5536800"/>
            <a:ext cx="5720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view Ques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3" name="Picture 5" descr=""/>
          <p:cNvPicPr/>
          <p:nvPr/>
        </p:nvPicPr>
        <p:blipFill>
          <a:blip r:embed="rId1"/>
          <a:stretch/>
        </p:blipFill>
        <p:spPr>
          <a:xfrm>
            <a:off x="1257480" y="1413000"/>
            <a:ext cx="2438280" cy="16952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"/>
          <p:cNvPicPr/>
          <p:nvPr/>
        </p:nvPicPr>
        <p:blipFill>
          <a:blip r:embed="rId2"/>
          <a:stretch/>
        </p:blipFill>
        <p:spPr>
          <a:xfrm>
            <a:off x="5486400" y="1417680"/>
            <a:ext cx="2362320" cy="168588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7"/>
          <p:cNvSpPr/>
          <p:nvPr/>
        </p:nvSpPr>
        <p:spPr>
          <a:xfrm>
            <a:off x="457200" y="3429000"/>
            <a:ext cx="82296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   Considera depth-first traversal of the undirected graph GA shown above, starting from vertex 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st the order in which the nodes are visited in a preorder traversal showing the depth-first traversal tre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st the order in which the nodes are visited in a postorder tra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   Repeat exercise 1 above for a depth-first traversal starting from vertex 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   List the order in which the nodes of the undirected graph GA shown above are visited by a breadth first traversal that starts from vertex a, showing the breadth-first traversal tree. Repeat this exercise for a breadth-first traversal starting from vertex 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   Repeat Exercises 1 and 3 for the directed graph G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825A-3C94-4942-B10B-A10D93BA9090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tion to Grap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Travers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cal S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80ED-C90F-4473-AAF8-6A8DE5D2FABB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opological Sor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roduc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 of Topological Sor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ical Sort is Not Uniq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ical Sort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Exam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view Ques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953B-C0B5-4EEA-8A30-70D644102EAA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C8EC-8163-4392-8FDF-4538495B36FF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71640" y="1166760"/>
            <a:ext cx="807552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many problems involving a set of tasks in which some of the tasks must be done before oth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consider the problem of taking a course only after taking its prerequisi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ere any systematic way of linearly arranging the courses in the order that they should be take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5074920" y="6165720"/>
            <a:ext cx="27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! - Topological s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8" descr="tpl01"/>
          <p:cNvPicPr/>
          <p:nvPr/>
        </p:nvPicPr>
        <p:blipFill>
          <a:blip r:embed="rId1"/>
          <a:stretch/>
        </p:blipFill>
        <p:spPr>
          <a:xfrm>
            <a:off x="1488960" y="3573360"/>
            <a:ext cx="308304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" dur="200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Definition of Topological Sor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873C-19E8-4A3E-9EFD-2D74037EF76D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033200" y="950760"/>
            <a:ext cx="821844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ical sort is a method of arranging the vertices in a directed acyclic graph (DAG), as a sequence, such that no vertex appear in the sequence before its predecess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graph in (a) can be topologically sorted as in (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Text Box 8"/>
          <p:cNvSpPr/>
          <p:nvPr/>
        </p:nvSpPr>
        <p:spPr>
          <a:xfrm>
            <a:off x="885240" y="587700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11" descr="tpl01"/>
          <p:cNvPicPr/>
          <p:nvPr/>
        </p:nvPicPr>
        <p:blipFill>
          <a:blip r:embed="rId1"/>
          <a:stretch/>
        </p:blipFill>
        <p:spPr>
          <a:xfrm>
            <a:off x="19080" y="2637000"/>
            <a:ext cx="3040200" cy="31683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5" descr="tpl02b"/>
          <p:cNvPicPr/>
          <p:nvPr/>
        </p:nvPicPr>
        <p:blipFill>
          <a:blip r:embed="rId2"/>
          <a:stretch/>
        </p:blipFill>
        <p:spPr>
          <a:xfrm>
            <a:off x="3132000" y="2924280"/>
            <a:ext cx="5940720" cy="388944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9"/>
          <p:cNvSpPr/>
          <p:nvPr/>
        </p:nvSpPr>
        <p:spPr>
          <a:xfrm>
            <a:off x="5187960" y="5732640"/>
            <a:ext cx="6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4"/>
          <p:cNvSpPr/>
          <p:nvPr/>
        </p:nvSpPr>
        <p:spPr>
          <a:xfrm>
            <a:off x="3059280" y="4221000"/>
            <a:ext cx="576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opological Sort is not uniqu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0ED3-0E99-4842-B36D-0CA39E0777C1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44480" y="1457280"/>
            <a:ext cx="829152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ical sort is not uniq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ollowing are all topological sort of the graph below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6" name="Group 10"/>
          <p:cNvGrpSpPr/>
          <p:nvPr/>
        </p:nvGrpSpPr>
        <p:grpSpPr>
          <a:xfrm>
            <a:off x="755640" y="3141720"/>
            <a:ext cx="7353360" cy="2832120"/>
            <a:chOff x="755640" y="3141720"/>
            <a:chExt cx="7353360" cy="2832120"/>
          </a:xfrm>
        </p:grpSpPr>
        <p:pic>
          <p:nvPicPr>
            <p:cNvPr id="427" name="Picture 6" descr=""/>
            <p:cNvPicPr/>
            <p:nvPr/>
          </p:nvPicPr>
          <p:blipFill>
            <a:blip r:embed="rId1"/>
            <a:stretch/>
          </p:blipFill>
          <p:spPr>
            <a:xfrm>
              <a:off x="755640" y="3284280"/>
              <a:ext cx="3870360" cy="26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Text Box 9"/>
            <p:cNvSpPr/>
            <p:nvPr/>
          </p:nvSpPr>
          <p:spPr>
            <a:xfrm>
              <a:off x="4833000" y="3141720"/>
              <a:ext cx="327600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1 = {a, b, c, d, e, f, g, h, i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2 = {a, c, b, f, e, d, h, g, i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3 = {a, b, d, c, e, g, f, h, i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4 = {a, c, f, b, e, h, d, g, i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tc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cal Sort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7790-B467-41F8-9A22-86E00EB6FD07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826920" y="10540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45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e way to find a topological sort is to consider in-degrees of the vertic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spcBef>
                <a:spcPts val="45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first vertex must have in-degree zero -- every DAG must have at least one vertex with in-degree zer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spcBef>
                <a:spcPts val="45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Topological sort algorithm i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826920" y="2421000"/>
            <a:ext cx="7775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topologicalOrderTraversal( 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numVisitedVertice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1f497d"/>
                </a:solidFill>
                <a:latin typeface="Courier New"/>
                <a:ea typeface="Courier New"/>
              </a:rPr>
              <a:t>while(there are more vertices to be visited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1f497d"/>
                </a:solidFill>
                <a:latin typeface="Courier New"/>
                <a:ea typeface="Courier New"/>
              </a:rPr>
              <a:t>if(there is no vertex with in-degree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1f497d"/>
                </a:solidFill>
                <a:latin typeface="Courier New"/>
                <a:ea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1f497d"/>
                </a:solidFill>
                <a:latin typeface="Courier New"/>
                <a:ea typeface="Courier New"/>
              </a:rPr>
              <a:t>select a vertex v that has in-degree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1f497d"/>
                </a:solidFill>
                <a:latin typeface="Courier New"/>
                <a:ea typeface="Courier New"/>
              </a:rPr>
              <a:t>visit v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1f497d"/>
                </a:solidFill>
                <a:latin typeface="Courier New"/>
                <a:ea typeface="Courier New"/>
              </a:rPr>
              <a:t>numVisitedVertices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1f497d"/>
                </a:solidFill>
                <a:latin typeface="Courier New"/>
                <a:ea typeface="Courier New"/>
              </a:rPr>
              <a:t>delete v and all its emanating edg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ourier New"/>
                <a:ea typeface="Courier New"/>
              </a:rPr>
              <a:t>       </a:t>
            </a:r>
            <a:r>
              <a:rPr b="1" lang="en-US" sz="2000" spc="-1" strike="noStrike">
                <a:solidFill>
                  <a:srgbClr val="1f497d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1f497d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mVisitedVertic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opological Sort Exampl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AB65-E42E-4DEB-8451-92EC3B92782C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17200" y="1023480"/>
            <a:ext cx="569916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monstrating Topological Sor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Line 35"/>
          <p:cNvSpPr/>
          <p:nvPr/>
        </p:nvSpPr>
        <p:spPr>
          <a:xfrm>
            <a:off x="6084720" y="2133720"/>
            <a:ext cx="0" cy="10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49"/>
          <p:cNvGrpSpPr/>
          <p:nvPr/>
        </p:nvGrpSpPr>
        <p:grpSpPr>
          <a:xfrm>
            <a:off x="1258920" y="1289160"/>
            <a:ext cx="6697440" cy="3724200"/>
            <a:chOff x="1258920" y="1289160"/>
            <a:chExt cx="6697440" cy="3724200"/>
          </a:xfrm>
        </p:grpSpPr>
        <p:grpSp>
          <p:nvGrpSpPr>
            <p:cNvPr id="438" name="Group 46"/>
            <p:cNvGrpSpPr/>
            <p:nvPr/>
          </p:nvGrpSpPr>
          <p:grpSpPr>
            <a:xfrm>
              <a:off x="1258920" y="1289160"/>
              <a:ext cx="6697440" cy="3724200"/>
              <a:chOff x="1258920" y="1289160"/>
              <a:chExt cx="6697440" cy="3724200"/>
            </a:xfrm>
          </p:grpSpPr>
          <p:grpSp>
            <p:nvGrpSpPr>
              <p:cNvPr id="439" name="Group 43"/>
              <p:cNvGrpSpPr/>
              <p:nvPr/>
            </p:nvGrpSpPr>
            <p:grpSpPr>
              <a:xfrm>
                <a:off x="1323000" y="1289160"/>
                <a:ext cx="6489000" cy="2775240"/>
                <a:chOff x="1323000" y="1289160"/>
                <a:chExt cx="6489000" cy="2775240"/>
              </a:xfrm>
            </p:grpSpPr>
            <p:grpSp>
              <p:nvGrpSpPr>
                <p:cNvPr id="440" name="Group 30"/>
                <p:cNvGrpSpPr/>
                <p:nvPr/>
              </p:nvGrpSpPr>
              <p:grpSpPr>
                <a:xfrm>
                  <a:off x="1323000" y="1289160"/>
                  <a:ext cx="6489000" cy="2775240"/>
                  <a:chOff x="1323000" y="1289160"/>
                  <a:chExt cx="6489000" cy="2775240"/>
                </a:xfrm>
              </p:grpSpPr>
              <p:sp>
                <p:nvSpPr>
                  <p:cNvPr id="441" name="Oval 4"/>
                  <p:cNvSpPr/>
                  <p:nvPr/>
                </p:nvSpPr>
                <p:spPr>
                  <a:xfrm>
                    <a:off x="1332000" y="1700280"/>
                    <a:ext cx="431640" cy="4316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Oval 5"/>
                  <p:cNvSpPr/>
                  <p:nvPr/>
                </p:nvSpPr>
                <p:spPr>
                  <a:xfrm>
                    <a:off x="1332000" y="3213000"/>
                    <a:ext cx="431640" cy="4320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F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Oval 6"/>
                  <p:cNvSpPr/>
                  <p:nvPr/>
                </p:nvSpPr>
                <p:spPr>
                  <a:xfrm>
                    <a:off x="2844720" y="1700280"/>
                    <a:ext cx="432000" cy="4316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B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Oval 7"/>
                  <p:cNvSpPr/>
                  <p:nvPr/>
                </p:nvSpPr>
                <p:spPr>
                  <a:xfrm>
                    <a:off x="2844720" y="3213000"/>
                    <a:ext cx="432000" cy="4320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Oval 8"/>
                  <p:cNvSpPr/>
                  <p:nvPr/>
                </p:nvSpPr>
                <p:spPr>
                  <a:xfrm>
                    <a:off x="4359240" y="1700280"/>
                    <a:ext cx="431640" cy="4316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Oval 9"/>
                  <p:cNvSpPr/>
                  <p:nvPr/>
                </p:nvSpPr>
                <p:spPr>
                  <a:xfrm>
                    <a:off x="4356000" y="3213000"/>
                    <a:ext cx="432000" cy="4320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Oval 10"/>
                  <p:cNvSpPr/>
                  <p:nvPr/>
                </p:nvSpPr>
                <p:spPr>
                  <a:xfrm>
                    <a:off x="5867280" y="1700280"/>
                    <a:ext cx="432000" cy="4316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Oval 11"/>
                  <p:cNvSpPr/>
                  <p:nvPr/>
                </p:nvSpPr>
                <p:spPr>
                  <a:xfrm>
                    <a:off x="5867280" y="3213000"/>
                    <a:ext cx="432000" cy="4320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I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Oval 12"/>
                  <p:cNvSpPr/>
                  <p:nvPr/>
                </p:nvSpPr>
                <p:spPr>
                  <a:xfrm>
                    <a:off x="7380360" y="1700280"/>
                    <a:ext cx="431640" cy="4316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Oval 13"/>
                  <p:cNvSpPr/>
                  <p:nvPr/>
                </p:nvSpPr>
                <p:spPr>
                  <a:xfrm>
                    <a:off x="7380360" y="3213000"/>
                    <a:ext cx="431640" cy="4320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J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Text Box 16"/>
                  <p:cNvSpPr/>
                  <p:nvPr/>
                </p:nvSpPr>
                <p:spPr>
                  <a:xfrm>
                    <a:off x="1323000" y="1289160"/>
                    <a:ext cx="322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Text Box 17"/>
                  <p:cNvSpPr/>
                  <p:nvPr/>
                </p:nvSpPr>
                <p:spPr>
                  <a:xfrm>
                    <a:off x="2886840" y="1341360"/>
                    <a:ext cx="322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Text Box 18"/>
                  <p:cNvSpPr/>
                  <p:nvPr/>
                </p:nvSpPr>
                <p:spPr>
                  <a:xfrm>
                    <a:off x="4425120" y="1333440"/>
                    <a:ext cx="322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Text Box 19"/>
                  <p:cNvSpPr/>
                  <p:nvPr/>
                </p:nvSpPr>
                <p:spPr>
                  <a:xfrm>
                    <a:off x="5909400" y="1341360"/>
                    <a:ext cx="322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Text Box 20"/>
                  <p:cNvSpPr/>
                  <p:nvPr/>
                </p:nvSpPr>
                <p:spPr>
                  <a:xfrm>
                    <a:off x="7423920" y="1341360"/>
                    <a:ext cx="322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Text Box 21"/>
                  <p:cNvSpPr/>
                  <p:nvPr/>
                </p:nvSpPr>
                <p:spPr>
                  <a:xfrm>
                    <a:off x="1375560" y="3638520"/>
                    <a:ext cx="322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Text Box 22"/>
                  <p:cNvSpPr/>
                  <p:nvPr/>
                </p:nvSpPr>
                <p:spPr>
                  <a:xfrm>
                    <a:off x="2886840" y="3638520"/>
                    <a:ext cx="322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Text Box 23"/>
                  <p:cNvSpPr/>
                  <p:nvPr/>
                </p:nvSpPr>
                <p:spPr>
                  <a:xfrm>
                    <a:off x="4350240" y="3665520"/>
                    <a:ext cx="322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Text Box 24"/>
                  <p:cNvSpPr/>
                  <p:nvPr/>
                </p:nvSpPr>
                <p:spPr>
                  <a:xfrm>
                    <a:off x="5929920" y="3638520"/>
                    <a:ext cx="322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Text Box 25"/>
                  <p:cNvSpPr/>
                  <p:nvPr/>
                </p:nvSpPr>
                <p:spPr>
                  <a:xfrm>
                    <a:off x="7444440" y="3638520"/>
                    <a:ext cx="322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Group 42"/>
                <p:cNvGrpSpPr/>
                <p:nvPr/>
              </p:nvGrpSpPr>
              <p:grpSpPr>
                <a:xfrm>
                  <a:off x="1546200" y="1917720"/>
                  <a:ext cx="6048360" cy="1366920"/>
                  <a:chOff x="1546200" y="1917720"/>
                  <a:chExt cx="6048360" cy="1366920"/>
                </a:xfrm>
              </p:grpSpPr>
              <p:sp>
                <p:nvSpPr>
                  <p:cNvPr id="462" name="Line 27"/>
                  <p:cNvSpPr/>
                  <p:nvPr/>
                </p:nvSpPr>
                <p:spPr>
                  <a:xfrm>
                    <a:off x="1763640" y="1917720"/>
                    <a:ext cx="10796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Line 28"/>
                  <p:cNvSpPr/>
                  <p:nvPr/>
                </p:nvSpPr>
                <p:spPr>
                  <a:xfrm>
                    <a:off x="6299280" y="1917720"/>
                    <a:ext cx="10792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Line 31"/>
                  <p:cNvSpPr/>
                  <p:nvPr/>
                </p:nvSpPr>
                <p:spPr>
                  <a:xfrm>
                    <a:off x="1546200" y="2133720"/>
                    <a:ext cx="0" cy="10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Line 32"/>
                  <p:cNvSpPr/>
                  <p:nvPr/>
                </p:nvSpPr>
                <p:spPr>
                  <a:xfrm flipV="1">
                    <a:off x="3058920" y="2133720"/>
                    <a:ext cx="0" cy="10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Line 33"/>
                  <p:cNvSpPr/>
                  <p:nvPr/>
                </p:nvSpPr>
                <p:spPr>
                  <a:xfrm flipH="1">
                    <a:off x="4785840" y="1917720"/>
                    <a:ext cx="10796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Line 34"/>
                  <p:cNvSpPr/>
                  <p:nvPr/>
                </p:nvSpPr>
                <p:spPr>
                  <a:xfrm flipV="1">
                    <a:off x="7594560" y="2133720"/>
                    <a:ext cx="0" cy="10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Line 36"/>
                  <p:cNvSpPr/>
                  <p:nvPr/>
                </p:nvSpPr>
                <p:spPr>
                  <a:xfrm flipH="1" flipV="1">
                    <a:off x="1690560" y="2060640"/>
                    <a:ext cx="1224000" cy="1224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Line 37"/>
                  <p:cNvSpPr/>
                  <p:nvPr/>
                </p:nvSpPr>
                <p:spPr>
                  <a:xfrm flipH="1" flipV="1">
                    <a:off x="4714920" y="2060640"/>
                    <a:ext cx="1224000" cy="1224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Line 38"/>
                  <p:cNvSpPr/>
                  <p:nvPr/>
                </p:nvSpPr>
                <p:spPr>
                  <a:xfrm flipV="1">
                    <a:off x="3203640" y="2060640"/>
                    <a:ext cx="1224000" cy="1224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Line 39"/>
                  <p:cNvSpPr/>
                  <p:nvPr/>
                </p:nvSpPr>
                <p:spPr>
                  <a:xfrm flipH="1">
                    <a:off x="4714920" y="2060640"/>
                    <a:ext cx="1224000" cy="1224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40"/>
                  <p:cNvSpPr/>
                  <p:nvPr/>
                </p:nvSpPr>
                <p:spPr>
                  <a:xfrm flipH="1">
                    <a:off x="6227640" y="2060640"/>
                    <a:ext cx="1224000" cy="1224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41"/>
                  <p:cNvSpPr/>
                  <p:nvPr/>
                </p:nvSpPr>
                <p:spPr>
                  <a:xfrm>
                    <a:off x="3203640" y="2060640"/>
                    <a:ext cx="1224000" cy="1224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474" name="Picture 44" descr=""/>
              <p:cNvPicPr/>
              <p:nvPr/>
            </p:nvPicPr>
            <p:blipFill>
              <a:blip r:embed="rId1"/>
              <a:stretch/>
            </p:blipFill>
            <p:spPr>
              <a:xfrm>
                <a:off x="1258920" y="4489560"/>
                <a:ext cx="6697440" cy="523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75" name="Text Box 48"/>
            <p:cNvSpPr/>
            <p:nvPr/>
          </p:nvSpPr>
          <p:spPr>
            <a:xfrm>
              <a:off x="1527120" y="46004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6" name="Picture 50" descr="tpl03"/>
          <p:cNvPicPr/>
          <p:nvPr/>
        </p:nvPicPr>
        <p:blipFill>
          <a:blip r:embed="rId2"/>
          <a:stretch/>
        </p:blipFill>
        <p:spPr>
          <a:xfrm>
            <a:off x="1547640" y="5084640"/>
            <a:ext cx="601056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7" name=""/>
          <p:cNvGraphicFramePr/>
          <p:nvPr/>
        </p:nvGraphicFramePr>
        <p:xfrm>
          <a:off x="1258920" y="4581360"/>
          <a:ext cx="6697800" cy="443160"/>
        </p:xfrm>
        <a:graphic>
          <a:graphicData uri="http://schemas.openxmlformats.org/drawingml/2006/table">
            <a:tbl>
              <a:tblPr/>
              <a:tblGrid>
                <a:gridCol w="669960"/>
                <a:gridCol w="669960"/>
                <a:gridCol w="669960"/>
                <a:gridCol w="669960"/>
                <a:gridCol w="668160"/>
                <a:gridCol w="669960"/>
                <a:gridCol w="669960"/>
                <a:gridCol w="669960"/>
                <a:gridCol w="669960"/>
                <a:gridCol w="669960"/>
              </a:tblGrid>
              <a:tr h="443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Review Question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9" name="Picture 4" descr=""/>
          <p:cNvPicPr/>
          <p:nvPr/>
        </p:nvPicPr>
        <p:blipFill>
          <a:blip r:embed="rId1"/>
          <a:stretch/>
        </p:blipFill>
        <p:spPr>
          <a:xfrm>
            <a:off x="3059280" y="1486080"/>
            <a:ext cx="3025440" cy="215892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6"/>
          <p:cNvSpPr/>
          <p:nvPr/>
        </p:nvSpPr>
        <p:spPr>
          <a:xfrm>
            <a:off x="612720" y="4002120"/>
            <a:ext cx="7920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   List the order in which the nodes of the directed graph GB are visited by topological order traversal that starts from vertex 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   What kind of DAG has a unique topological so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   Generate a directed graph using the required courses for your major. Now apply topological sort on the directed graph you obtain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5390-6E65-466E-845C-23F984B245B9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Introduction to Graph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130000"/>
              </a:lnSpc>
              <a:spcBef>
                <a:spcPts val="45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hat is a Graph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25160" indent="-425160">
              <a:lnSpc>
                <a:spcPct val="130000"/>
              </a:lnSpc>
              <a:spcBef>
                <a:spcPts val="300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25160" indent="-425160">
              <a:lnSpc>
                <a:spcPct val="130000"/>
              </a:lnSpc>
              <a:spcBef>
                <a:spcPts val="45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ome Example applications of Graph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25160" indent="-425160">
              <a:lnSpc>
                <a:spcPct val="130000"/>
              </a:lnSpc>
              <a:spcBef>
                <a:spcPts val="300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25160" indent="-425160">
              <a:lnSpc>
                <a:spcPct val="130000"/>
              </a:lnSpc>
              <a:spcBef>
                <a:spcPts val="45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Graph Terminologi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25160" indent="-425160">
              <a:lnSpc>
                <a:spcPct val="130000"/>
              </a:lnSpc>
              <a:spcBef>
                <a:spcPts val="300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25160" indent="-425160">
              <a:lnSpc>
                <a:spcPct val="130000"/>
              </a:lnSpc>
              <a:spcBef>
                <a:spcPts val="45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presentation of Graph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50320" indent="-425160">
              <a:lnSpc>
                <a:spcPct val="130000"/>
              </a:lnSpc>
              <a:spcBef>
                <a:spcPts val="451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djacency Matrix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50320" indent="-425160">
              <a:lnSpc>
                <a:spcPct val="130000"/>
              </a:lnSpc>
              <a:spcBef>
                <a:spcPts val="451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djacency Lis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50320" indent="-425160">
              <a:lnSpc>
                <a:spcPct val="130000"/>
              </a:lnSpc>
              <a:spcBef>
                <a:spcPts val="451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imple Lis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50320" indent="-425160">
              <a:lnSpc>
                <a:spcPct val="130000"/>
              </a:lnSpc>
              <a:spcBef>
                <a:spcPts val="451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ncidence Matri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50320" indent="-425160">
              <a:lnSpc>
                <a:spcPct val="130000"/>
              </a:lnSpc>
              <a:spcBef>
                <a:spcPts val="300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25160" indent="-425160">
              <a:lnSpc>
                <a:spcPct val="130000"/>
              </a:lnSpc>
              <a:spcBef>
                <a:spcPts val="45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view Questio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427D-D29A-49F3-8F47-785F548E8878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What is a Graph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92E9-2D7D-4349-A7BD-7401E4D2405C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218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s are Generalization of Tre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imple graph G = (V, E) consists of a non-empty set V, whose members are called the vertices of G, and a set E of pairs of distinct vertices from V, called the edges of 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00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imple graph has no loop (An edge that connects a vertex to itself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00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imple graph has no vertices joined by multiple edg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250920" y="4548240"/>
            <a:ext cx="2152440" cy="1676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2"/>
          <a:stretch/>
        </p:blipFill>
        <p:spPr>
          <a:xfrm>
            <a:off x="2867040" y="4518000"/>
            <a:ext cx="1905120" cy="17146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"/>
          <p:cNvPicPr/>
          <p:nvPr/>
        </p:nvPicPr>
        <p:blipFill>
          <a:blip r:embed="rId3"/>
          <a:stretch/>
        </p:blipFill>
        <p:spPr>
          <a:xfrm>
            <a:off x="5643720" y="4487760"/>
            <a:ext cx="1904760" cy="17146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0"/>
          <p:cNvSpPr/>
          <p:nvPr/>
        </p:nvSpPr>
        <p:spPr>
          <a:xfrm>
            <a:off x="620280" y="400536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ir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2864520" y="4005360"/>
            <a:ext cx="22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ed (Digrap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5956560" y="400536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Clipboard01"/>
          <p:cNvPicPr/>
          <p:nvPr/>
        </p:nvPicPr>
        <p:blipFill>
          <a:blip r:embed="rId4"/>
          <a:stretch/>
        </p:blipFill>
        <p:spPr>
          <a:xfrm>
            <a:off x="7394400" y="2205000"/>
            <a:ext cx="171468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ome Example Applications of Graph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08000" y="1267920"/>
            <a:ext cx="8928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ing the least congested route between two phones, given connections between switching sta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9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ing the shortest path from one city to anoth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9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9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 a traveling sales-person, finding the cheapest path that passes through all the cities that the sales person must vis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9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9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ing an ordering of courses so that prerequisite courses are always taken fir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9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s: Vertices represent computers and edges represent network connections between th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rld Wide Web: Vertices represent webpages, and edges represent hyperlink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86680" indent="-443160">
              <a:lnSpc>
                <a:spcPct val="80000"/>
              </a:lnSpc>
              <a:spcBef>
                <a:spcPts val="400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termining if there is a way to get from one page to another, just by following link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90000"/>
              </a:lnSpc>
              <a:spcBef>
                <a:spcPts val="400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A759-0DB6-4580-9FAD-E73B13217BE6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Graphs Terminologi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7" descr=""/>
          <p:cNvPicPr/>
          <p:nvPr/>
        </p:nvPicPr>
        <p:blipFill>
          <a:blip r:embed="rId1"/>
          <a:stretch/>
        </p:blipFill>
        <p:spPr>
          <a:xfrm>
            <a:off x="539640" y="5079960"/>
            <a:ext cx="1505160" cy="1157400"/>
          </a:xfrm>
          <a:prstGeom prst="rect">
            <a:avLst/>
          </a:prstGeom>
          <a:ln w="0">
            <a:noFill/>
          </a:ln>
        </p:spPr>
      </p:pic>
      <p:sp>
        <p:nvSpPr>
          <p:cNvPr id="197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4266-0237-46F1-819E-591A4157C7EC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21844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45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jacent Vertices: there is a connecting edg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38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spcBef>
                <a:spcPts val="45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Path: A sequence of adjacent vertic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38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spcBef>
                <a:spcPts val="45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Cycle: A path in which the last and first vertices are adjacen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38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spcBef>
                <a:spcPts val="45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nected graph: There is a path from any vertex to every other vertex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Picture 9" descr=""/>
          <p:cNvPicPr/>
          <p:nvPr/>
        </p:nvPicPr>
        <p:blipFill>
          <a:blip r:embed="rId2"/>
          <a:stretch/>
        </p:blipFill>
        <p:spPr>
          <a:xfrm>
            <a:off x="2700360" y="4994280"/>
            <a:ext cx="1738440" cy="1300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"/>
          <p:cNvPicPr/>
          <p:nvPr/>
        </p:nvPicPr>
        <p:blipFill>
          <a:blip r:embed="rId3"/>
          <a:stretch/>
        </p:blipFill>
        <p:spPr>
          <a:xfrm>
            <a:off x="4643280" y="4991040"/>
            <a:ext cx="1725840" cy="1273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2" descr=""/>
          <p:cNvPicPr/>
          <p:nvPr/>
        </p:nvPicPr>
        <p:blipFill>
          <a:blip r:embed="rId4"/>
          <a:stretch/>
        </p:blipFill>
        <p:spPr>
          <a:xfrm>
            <a:off x="6761160" y="4941720"/>
            <a:ext cx="1698480" cy="128772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13"/>
          <p:cNvSpPr/>
          <p:nvPr/>
        </p:nvSpPr>
        <p:spPr>
          <a:xfrm>
            <a:off x="1117440" y="436572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2916720" y="436572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4787640" y="436572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6734520" y="4365720"/>
            <a:ext cx="172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More Graph Terminologi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890640" y="5357880"/>
            <a:ext cx="1181160" cy="1143000"/>
          </a:xfrm>
          <a:prstGeom prst="rect">
            <a:avLst/>
          </a:prstGeom>
          <a:ln w="0">
            <a:noFill/>
          </a:ln>
        </p:spPr>
      </p:pic>
      <p:sp>
        <p:nvSpPr>
          <p:cNvPr id="208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410B-BB93-42AE-A45C-7B560BB01F00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00244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45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h and cycles in a digraph: must move in the direction specified by the arrow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nectedness in a digraph: strong and wea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ongly Connected: If connected as a digraph - following the arrow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akly connected: If the underlying undirected graph is connected  (i.e. ignoring the arrow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3708360" y="5229360"/>
            <a:ext cx="1525680" cy="1407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"/>
          <p:cNvPicPr/>
          <p:nvPr/>
        </p:nvPicPr>
        <p:blipFill>
          <a:blip r:embed="rId3"/>
          <a:stretch/>
        </p:blipFill>
        <p:spPr>
          <a:xfrm>
            <a:off x="6647040" y="5092560"/>
            <a:ext cx="1525320" cy="14083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9"/>
          <p:cNvSpPr/>
          <p:nvPr/>
        </p:nvSpPr>
        <p:spPr>
          <a:xfrm>
            <a:off x="560880" y="4581360"/>
            <a:ext cx="18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ed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3163680" y="4581360"/>
            <a:ext cx="24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ly 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6155640" y="458136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kly 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urther Graph Terminologi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1019160" y="5032440"/>
            <a:ext cx="3048120" cy="1276200"/>
          </a:xfrm>
          <a:prstGeom prst="rect">
            <a:avLst/>
          </a:prstGeom>
          <a:ln w="0">
            <a:noFill/>
          </a:ln>
        </p:spPr>
      </p:pic>
      <p:sp>
        <p:nvSpPr>
          <p:cNvPr id="217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1884-5D62-43B8-9C35-3BEA6FD053BE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52480" y="1600200"/>
            <a:ext cx="829152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anate: an edg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 = (v, w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said to emanate from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(v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denotes the set of all edges emanating fro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ident: an edg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 = (v, w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said to be incident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(w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note the set of all edges incident to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-degree: number of edges emanating from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-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|A(v)|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-degree: number of edges incident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- |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(w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|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9" name="Picture 8" descr=""/>
          <p:cNvPicPr/>
          <p:nvPr/>
        </p:nvPicPr>
        <p:blipFill>
          <a:blip r:embed="rId2"/>
          <a:stretch/>
        </p:blipFill>
        <p:spPr>
          <a:xfrm>
            <a:off x="6156360" y="5070600"/>
            <a:ext cx="1676520" cy="12380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0"/>
          <p:cNvSpPr/>
          <p:nvPr/>
        </p:nvSpPr>
        <p:spPr>
          <a:xfrm>
            <a:off x="1536480" y="454500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ed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5838120" y="4545000"/>
            <a:ext cx="21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irected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1T17:26:30Z</dcterms:created>
  <dc:creator>null</dc:creator>
  <dc:description/>
  <dc:language>en-US</dc:language>
  <cp:lastModifiedBy>Wasfi Al-Khatib</cp:lastModifiedBy>
  <dcterms:modified xsi:type="dcterms:W3CDTF">2012-11-26T04:50:21Z</dcterms:modified>
  <cp:revision>91</cp:revision>
  <dc:subject/>
  <dc:title>Slide 1</dc:title>
</cp:coreProperties>
</file>