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22.wmf" ContentType="image/x-wmf"/>
  <Override PartName="/ppt/media/image10.wmf" ContentType="image/x-wmf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wmf" ContentType="image/x-wmf"/>
  <Override PartName="/ppt/media/image3.jpeg" ContentType="image/jpeg"/>
  <Override PartName="/ppt/media/image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20C9C-A3E3-4AB0-A4A6-C31CBBCC7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8C178-7424-4D91-ACF6-DF90D52E2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D1634-0953-4DC8-BFEF-18C37195D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0A39D-0085-48DB-938D-6D8A5B3E1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CDF6E-CD6A-40BF-9D75-F07F7E2B6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BC9F0-2263-4835-B74B-8B3642E2A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C60A1-AA99-4254-8063-FA5FAF247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EE2F1-EFA3-44CF-AC25-FD25C0703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E1C2C-CAE6-42D0-8354-15A8F0AD4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BCCF1-1CF8-4846-9810-2BAD5B7B2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30C6D-ED6C-4DE9-8985-94A745696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EB3DA-2DEA-4288-94F9-40724DE1E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E9A57-B790-4CF7-AF4C-3562EB33D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FC197-416D-44B3-BE89-4A16C7CE5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 rtl="1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ECBE8-125E-4FD3-8F93-F6D643AE7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2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3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2133720" y="21337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Complex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g-O Notation (continu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065240" y="5181480"/>
            <a:ext cx="74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-3 Comparison of functions for different valu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Figure 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58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 of Big-O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 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ansitivity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, 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 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, 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 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 of Big-O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71280" y="1268280"/>
            <a:ext cx="7770600" cy="52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any positi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 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x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}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 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*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*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 8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unction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any positive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≠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t 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any positi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≠ 1, 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Ω and Θ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g-O notation refers to the upper bounds of fun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 symmetrical definition for a lower bound in the definition of big-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 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Ω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 if there exist positive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≥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Ω and Θ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fference between this definition and the definition of big-O notation is the direction of the ine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efinition can be turned into the other by replacing “≥” with “≤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n interconnection between these two notations expressed by the equiva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Ω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) if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Ω and Θ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 3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Θ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 if there exist positive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≤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≤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pplying any of these notations (big-O,Ω, and Θ), remember they are approximations that hide some detail that in many cases may be considered impor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nings about O-Not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g-O notation cannot compare algorithms in the same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g-O notation only gives sensible comparisons of algorithms in different complexity classes wh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large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wo algorithms for same task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(n) = 1000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ratic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'(n) =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1000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quadratic one is faster for n &lt; 1000000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of Complex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an be classified by their time or space complex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gorithm is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an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ts execution time remains the same for any number of elements, and is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adratic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ts execution tim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27252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of Complex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457200" y="5164200"/>
            <a:ext cx="82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-4 Classes of algorithms and their execution times on a comput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ng 1 million operations per second (1 sec =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μsec =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393840" y="1866960"/>
            <a:ext cx="83563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920" y="28368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of Complex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57200" y="4952880"/>
            <a:ext cx="823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-4 Classes of algorithms and their execution times on a comput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ng 1 million operations per second (1 sec =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μsec =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sec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401760" y="1984320"/>
            <a:ext cx="83404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and Algorithms in Java”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dition, Adam Drozdek, Thomson Learning, ISBN 0-534-49252-5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pter 2 (Sections 1 – 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s 2.9: Amortized Complexity and 2.10: NP-Completeness are not inclu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7920" y="28368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Complex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522080" y="541008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-5 Typical functions applied in big-O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47652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symptotic Complexity: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ymptotic boun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used to estimate the efficiency of algorithms by assessing the amount of time and memory needed to accomplish the task for which the algorithms were de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sum = 0; i &lt; n; i++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a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4023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symptotic Complexity: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345680"/>
            <a:ext cx="8175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present the cost of the for loop in summation for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main idea is to make sure that we find an iterator that increases/decreases its value by 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r example, consider finding the number of times statements 1 and 2 get executed below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298080" y="3000240"/>
            <a:ext cx="4432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1; i &lt;= 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1; j &lt;= n; j+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298080" y="4676760"/>
            <a:ext cx="4432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1; i &lt;= 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1; j &lt;= i; j+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ment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6"/>
          <p:cNvGraphicFramePr/>
          <p:nvPr/>
        </p:nvGraphicFramePr>
        <p:xfrm>
          <a:off x="5214960" y="2997360"/>
          <a:ext cx="37209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2997360"/>
                    <a:ext cx="37209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5214960" y="4662360"/>
          <a:ext cx="3459240" cy="10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4960" y="4662360"/>
                    <a:ext cx="345924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symptotic Complexity: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present the cost of the for loop in summation 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in the example below is that the value of i does not increase by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0680" indent="-53352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: k  , k + m , k + 2m , …, k + 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847880" indent="-533520"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Here, we can assume without loss of generality that    k + rm = n, i.e. r = (n – k)/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847880" indent="-533520"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.e., an iterator s from 0, 1, …,r can be use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2206800" y="3213000"/>
            <a:ext cx="48441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k; i &lt;= n; i = i +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ment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7"/>
          <p:cNvGraphicFramePr/>
          <p:nvPr/>
        </p:nvGraphicFramePr>
        <p:xfrm>
          <a:off x="1468440" y="5514840"/>
          <a:ext cx="5376960" cy="11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5514840"/>
                    <a:ext cx="537696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symptotic Complexity: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j = 1, sum = a[0]; j &lt;= i; j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+= a[j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"su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arr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+i+" is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sum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 = 4; i &lt; n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j = i-3, sum = a[i-4]; j &lt;= i; j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+= a[j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"su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arr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+(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)+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+i+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"+ sum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90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symptotic Complexity: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 = 0, length = 1; i &lt; n-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1 = i2 = k = i; k &lt; n-1 &amp;&amp; a[k] &lt; a[k+1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++, i2++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length &lt; i2 - i1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 = i2 - i1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"th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rder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b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51768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symptotic Complexity: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inarySearch(int[] arr, int ke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 = 0, mid, hi = arr.length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o &lt;= hi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id = (lo + hi)/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key &lt; arr[mid]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i = mid -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 if (arr[mid] &lt; ke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 = mid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 return mid; // su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/ fail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517680"/>
                <a:tab algn="l" pos="1206360"/>
                <a:tab algn="l" pos="160344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55840" y="76320"/>
            <a:ext cx="738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Asymptotic Complexity: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196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s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power of 2. Determine the number of times statement 1 is executed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variables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n myMethod are different from the ones in the helper metho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fact,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f “helper” is being called by variable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n “myMethod”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nce, we need to change the name of variable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in helper because it is independent from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in myMethod (let us call it k)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 count the number of times statement1 gets executed as follow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 myMethod)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1 , 2 ,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…, 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lo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nce, we can us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0 , 1 , 2 , 3, …,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lo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611280" y="2060640"/>
            <a:ext cx="360036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int myMethod(int n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int i = 1; i &lt;= n; i = i *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sum + i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lper(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4"/>
          <p:cNvSpPr/>
          <p:nvPr/>
        </p:nvSpPr>
        <p:spPr>
          <a:xfrm>
            <a:off x="4556160" y="2060640"/>
            <a:ext cx="428472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int helper(int n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int i = 1; i &lt;= 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sum + i; //statemen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399960" y="5867280"/>
          <a:ext cx="845820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867280"/>
                    <a:ext cx="84582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Useful Formul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481640" y="-88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8"/>
          <p:cNvGraphicFramePr/>
          <p:nvPr/>
        </p:nvGraphicFramePr>
        <p:xfrm>
          <a:off x="1143000" y="1357200"/>
          <a:ext cx="35244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57200"/>
                    <a:ext cx="35244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9"/>
          <p:cNvGraphicFramePr/>
          <p:nvPr/>
        </p:nvGraphicFramePr>
        <p:xfrm>
          <a:off x="1143000" y="2276640"/>
          <a:ext cx="2043000" cy="92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276640"/>
                    <a:ext cx="2043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3"/>
          <p:cNvGraphicFramePr/>
          <p:nvPr/>
        </p:nvGraphicFramePr>
        <p:xfrm>
          <a:off x="1143000" y="3267000"/>
          <a:ext cx="2922480" cy="8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267000"/>
                    <a:ext cx="29224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4"/>
          <p:cNvGraphicFramePr/>
          <p:nvPr/>
        </p:nvGraphicFramePr>
        <p:xfrm>
          <a:off x="1143000" y="4175280"/>
          <a:ext cx="236700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175280"/>
                    <a:ext cx="2367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5"/>
          <p:cNvGraphicFramePr/>
          <p:nvPr/>
        </p:nvGraphicFramePr>
        <p:xfrm>
          <a:off x="1143000" y="5227560"/>
          <a:ext cx="2489040" cy="84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227560"/>
                    <a:ext cx="24890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ful Logarithmic Formu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1214280" y="2571840"/>
            <a:ext cx="5537520" cy="730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1214280" y="3503520"/>
            <a:ext cx="6000840" cy="665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3"/>
          <a:stretch/>
        </p:blipFill>
        <p:spPr>
          <a:xfrm>
            <a:off x="1214280" y="4370400"/>
            <a:ext cx="3078360" cy="4874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115920"/>
            <a:ext cx="662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ational and Asympto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g-O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 of Big-O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Ω and Θ No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nings about Big-O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Complex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ing Asymptotic Complexity: 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est, Average, and Worst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quence of statements:  Use Addition r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(s1; s2; s3; … sk) = O(s1) + O(s2) + O(s3) + … + O(s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O(max(s1, s2, s3, . . . , sk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Complexity is O(n</a:t>
            </a:r>
            <a:r>
              <a:rPr b="0" lang="es-AR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) + O(n) +O(1) = O(n</a:t>
            </a:r>
            <a:r>
              <a:rPr b="0" lang="es-AR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901800" y="3141720"/>
            <a:ext cx="597204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j = 0; j &lt; n * n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k = 0; k &lt; n; k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- 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sum is now ” + su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1619280" y="309600"/>
            <a:ext cx="7699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termine complexity of code structure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425520" y="1501920"/>
            <a:ext cx="7099200" cy="49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X = new int[n]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[] Y = new int[n][n]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key)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'a'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X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X[i]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'b'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Y.length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j = 0; j &lt; Y[0].length; j++)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Y[i][j]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 // End of switch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2384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witch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ake the complexity of the most expensive ca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611280" y="2924280"/>
            <a:ext cx="619272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6804000" y="3406680"/>
            <a:ext cx="1152720" cy="2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7956720" y="316692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7883640" y="450864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476360" y="6305400"/>
            <a:ext cx="54007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all Complexity: 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826920" y="4076640"/>
            <a:ext cx="662472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>
            <a:off x="7451640" y="4797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1619280" y="309600"/>
            <a:ext cx="7699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termine complexity of code structure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469800" y="1682640"/>
            <a:ext cx="7848720" cy="47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[] A = new int[n]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[] B = new int[n]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[] C = new int[n]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(key == '+')  {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n; i+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j = 0; j &lt; n; j+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[j] = A[i][j] + B[i][j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// End of i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(key == 'x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matrixMult(A, B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rror! Enter '+' or 'x'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258920" y="119556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Statement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ke the complexity of the most expensive cas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541440" y="3049560"/>
            <a:ext cx="55432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541440" y="4994280"/>
            <a:ext cx="4176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541440" y="5859360"/>
            <a:ext cx="734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6157800" y="4267080"/>
            <a:ext cx="115272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789440" y="5138640"/>
            <a:ext cx="115272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7958160" y="5931000"/>
            <a:ext cx="93492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7812000" y="4076640"/>
            <a:ext cx="1079640" cy="79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1619280" y="309600"/>
            <a:ext cx="7699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termine complexity of code structure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42920" y="1989000"/>
            <a:ext cx="7705800" cy="405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ntegers = new int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hasPrimes(integers) == tr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[0]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[0] = 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hasPrimes(int[] ar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arr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// End of hasPrime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81720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metimes if-else statements must carefully be checked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O(if-else) = O(Condition)+ Max[O(if), O(else)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5940360" y="2924280"/>
            <a:ext cx="64764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1763640" y="3467160"/>
            <a:ext cx="3068640" cy="5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1763640" y="2924280"/>
            <a:ext cx="3068640" cy="42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5057640" y="3141720"/>
            <a:ext cx="79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5057640" y="3681360"/>
            <a:ext cx="79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1838160" y="6093000"/>
            <a:ext cx="3718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if-else) = O(Condition) =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6156360" y="5294160"/>
            <a:ext cx="64764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1619280" y="309600"/>
            <a:ext cx="7699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termine complexity of code structure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98760" y="759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, Average, and Worst case complex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best case complexity analys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mallest number of operations carried out by the algorithm for a given inpu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worst case complexity analys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largest number of operations carried out by the algorithm for a given inpu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average case complexity analys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number of operations carried out by the algorithm on avera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for all 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usually interested in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orst ca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ier to compu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presents an upper bound on the actual running time for all inpu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real-time systems (e.g. air-traffic contr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1" name="Object 4"/>
          <p:cNvGraphicFramePr/>
          <p:nvPr/>
        </p:nvGraphicFramePr>
        <p:xfrm>
          <a:off x="2286000" y="3643200"/>
          <a:ext cx="528156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643200"/>
                    <a:ext cx="52815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18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st, Average, and Worst case complexitie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9152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near search algorithm, searching for a key in an array of n elements, determine the situation and the number of comparisons in each of the following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 Ca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s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erage Ca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do we Measure Effici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are often many differen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lgorithm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can be used to solve the same probl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xample, assume that we want to search for a key in a sorted arr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s, it makes sense to develop techniques that allow us t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different algorithms with respect to their “efficiency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e the most efficient algorithm for the probl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of any algorithmic solution to a problem can be  measured according to th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Time efficiency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: the time it takes to execu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pace efficiency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: the space (primary or secondary memory) it us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will focus on an algorithm’s efficiency with respect to t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707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do we Measure Effici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63480" y="14522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ning time in [micro/milli] secon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5880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al and Asymptotic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ational complex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s the degree of difficulty of a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uch effort is needed to apply an algorithm or how costly it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valuate an algorithm’s efficiency, use logical units that express a relationship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z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file or an ar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mount of ti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d to proce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it makes sense to specify that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al and Asymptotic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sure of efficiency is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ympto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when disregarding certain terms of a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express the efficiency of an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calculating a function is difficult or impossible and only approximations can 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0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al and Asymptotic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ure 2-1 The growth rate of all terms of fun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+ 100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 lo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 1,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609480" y="1484280"/>
            <a:ext cx="80679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g-O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d in 1894, the big-O notation specifies asymptotic complexity, which estimates the rate of function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 1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 if there exist positive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≤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10680" y="5486400"/>
            <a:ext cx="84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-2 Different valu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1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calculated according to the definition of big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65376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01:06:23Z</dcterms:created>
  <dc:creator>Win98</dc:creator>
  <dc:description/>
  <dc:language>en-US</dc:language>
  <cp:lastModifiedBy>Wasfi Al-Khatib</cp:lastModifiedBy>
  <dcterms:modified xsi:type="dcterms:W3CDTF">2012-09-05T06:44:54Z</dcterms:modified>
  <cp:revision>335</cp:revision>
  <dc:subject/>
  <dc:title>Slide 1</dc:title>
</cp:coreProperties>
</file>