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D1A3-A2A2-4869-A971-E248483A1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F72C-89F7-40EE-A247-2E679FB99F0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4822-9DD3-4BAE-836E-D96D0ED031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E280-1DBB-4771-9C65-E08A75708E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7831-F0F1-4D3F-87DD-F60E8E557E3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99CD-541B-4F84-A5DE-2704AD776E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6428-BAF6-415A-8940-9DFD5BC80CA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ED17-9F6E-4BBC-B0A1-69B6E7E7AB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BF55-23F6-49F3-B032-34DF5EC5D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B2C1-35CB-4667-9E30-F94595F5A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2000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2000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3FB9-1503-4912-A1B4-4CE37BBA3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8512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4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8512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4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5CDA-D062-4CC0-8E09-F32862C66A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C08D-66A8-49FF-A348-F65129FA70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FDAD-0A80-4DF2-BC7B-E462E6540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2000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6AD2-6DB1-4C7F-98C5-64F23AD31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51AE-92B1-4CB3-B032-15411FECF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50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8B63-A96A-4829-928D-2866EF009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2000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18A4-A7F3-404A-8222-D406B7A1C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00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2000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DFEE-1FCA-4D87-BB52-6EA1B1146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00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2795-3151-43C2-97F6-2F392D4D7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B49A-19AA-48DE-8E92-17C924706348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133720" y="21337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of Object-Oriented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of Abstract Classes (Cont'd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llowing extends the Employee abstract class to get MonthlyEmploye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ext example extends the MonthlyEmployee class to get  the Executiv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301760" y="2438280"/>
            <a:ext cx="7373880" cy="204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MonthlyEmployee extends Employee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MonthlyEmployee(String empName, double empRat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(empName, empRat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double pay(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payRat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FC58-B842-4495-B0F8-941CE4BA525A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of Abstract Classes (Cont'd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149120" y="1498320"/>
            <a:ext cx="6662520" cy="380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Executive extends MonthlyEmployee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double bonu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Executive(String exName, double exRate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(exName, exRat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nu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awardBonus(double amount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nus = am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double pay(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paycheck = super.pay() + bonu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nu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paychec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print(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pr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Current bonus: " + bonu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258920" y="5950080"/>
            <a:ext cx="1297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ploye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Line 6"/>
          <p:cNvSpPr/>
          <p:nvPr/>
        </p:nvSpPr>
        <p:spPr>
          <a:xfrm flipV="1">
            <a:off x="2556000" y="587808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419640" y="5589720"/>
            <a:ext cx="1728720" cy="288720"/>
          </a:xfrm>
          <a:prstGeom prst="rect">
            <a:avLst/>
          </a:prstGeom>
          <a:solidFill>
            <a:srgbClr val="ffffff"/>
          </a:solidFill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urlyEmploye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419640" y="6094440"/>
            <a:ext cx="1728720" cy="287280"/>
          </a:xfrm>
          <a:prstGeom prst="rect">
            <a:avLst/>
          </a:prstGeom>
          <a:solidFill>
            <a:srgbClr val="ffffff"/>
          </a:solidFill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thlyEmploye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Line 11"/>
          <p:cNvSpPr/>
          <p:nvPr/>
        </p:nvSpPr>
        <p:spPr>
          <a:xfrm flipH="1" flipV="1">
            <a:off x="2555640" y="6165360"/>
            <a:ext cx="863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5148360" y="62388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5867280" y="6022800"/>
            <a:ext cx="1227240" cy="287640"/>
          </a:xfrm>
          <a:prstGeom prst="rect">
            <a:avLst/>
          </a:prstGeom>
          <a:noFill/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867280" y="6060960"/>
            <a:ext cx="1175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ecutiv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450D-2CC4-4E5E-B6F5-408937FD78EE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8"/>
          <p:cNvSpPr/>
          <p:nvPr/>
        </p:nvSpPr>
        <p:spPr>
          <a:xfrm>
            <a:off x="766800" y="1693800"/>
            <a:ext cx="7373880" cy="359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AbstractClass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[] list = new Employee[3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0] = new Executive("Jarallah Al-Ghamdi", 5000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1] = new HourlyEmployee("Azmat Ansari", 12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2] = new MonthlyEmployee("Sahalu Junaidu", 900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(Executive)list[0]).awardBonus(1100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list.length; i++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list[i] instanceof HourlyEmploye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(HourlyEmployee)list[i]).addHours(6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list.length; i++)  {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i].pr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Paid: " + list[i].pa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*************************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1520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of Abstract Classes (Cont'd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999720"/>
            <a:ext cx="8218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llowing further illustrates the advantages of organizing classes using inheritance - same type, polymorphism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200200" y="1371240"/>
            <a:ext cx="37544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500720" y="6093000"/>
            <a:ext cx="194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gram Outpu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16" descr="Clipboard"/>
          <p:cNvPicPr/>
          <p:nvPr/>
        </p:nvPicPr>
        <p:blipFill>
          <a:blip r:embed="rId1"/>
          <a:stretch/>
        </p:blipFill>
        <p:spPr>
          <a:xfrm>
            <a:off x="6300720" y="4572000"/>
            <a:ext cx="24764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of Interfac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aces are not classes, they are entirely a separate entit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provide a list of abstract methods which MUST be implemented by a class that implements the interf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ike abstract classes which may contain implementation of some of the methods, interfaces provide NO implem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ke abstract classes, the purpose of interfaces is to provide organizational structur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importantly, interfaces are here to provide a kind of "multiple inheritance" which is not supported in Ja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both parents of a child implement a method, which one does the child inherits? - Multiple inheritance confus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faces allow a child to be both of type A and B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15C0-2192-4DF1-9B64-740083E069FF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of Interfaces (contd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 that Java has the Comparable interface defined 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 also that java has the java.util.Arrays class, which has a sort method that can sort any array whose contents are either primitive values or Comparable ob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, to sort our list of Employee objects, all we need is to modify the Employee class to implement the Comparable interf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is will work even if the Employee class is extending another class or implementing another interf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modification is shown in the next p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495160" y="1946160"/>
            <a:ext cx="3594600" cy="87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Comparab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ompareTo(Object o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4512-63FC-4360-9B38-37348389832A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7480" y="0"/>
            <a:ext cx="66294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of Interfaces (contd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23680" y="980640"/>
            <a:ext cx="7419960" cy="502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 class Employee implements Comparable 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ected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ected double payRat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Employee(String empName, double empRate) 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emp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yRate = empRat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Name()  {return name;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setPayRate(double newRate) 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yRate = newRat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 public double pa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compareTo(Object o) 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e = (Employee) o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name.compareTo( e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627280" y="6237360"/>
            <a:ext cx="1297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ploye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5"/>
          <p:cNvSpPr/>
          <p:nvPr/>
        </p:nvSpPr>
        <p:spPr>
          <a:xfrm flipV="1">
            <a:off x="3924360" y="6165720"/>
            <a:ext cx="1008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788000" y="5877000"/>
            <a:ext cx="1728720" cy="288720"/>
          </a:xfrm>
          <a:prstGeom prst="rect">
            <a:avLst/>
          </a:prstGeom>
          <a:solidFill>
            <a:srgbClr val="ffffff"/>
          </a:solidFill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urlyEmploye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788000" y="6381720"/>
            <a:ext cx="1728720" cy="287280"/>
          </a:xfrm>
          <a:prstGeom prst="rect">
            <a:avLst/>
          </a:prstGeom>
          <a:solidFill>
            <a:srgbClr val="ffffff"/>
          </a:solidFill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thlyEmploye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8"/>
          <p:cNvSpPr/>
          <p:nvPr/>
        </p:nvSpPr>
        <p:spPr>
          <a:xfrm flipH="1" flipV="1">
            <a:off x="3924000" y="6453360"/>
            <a:ext cx="863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516720" y="65260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7236000" y="6310440"/>
            <a:ext cx="1226880" cy="287280"/>
          </a:xfrm>
          <a:prstGeom prst="rect">
            <a:avLst/>
          </a:prstGeom>
          <a:noFill/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236000" y="6308640"/>
            <a:ext cx="117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ecutiv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84360" y="6237360"/>
            <a:ext cx="1366560" cy="360360"/>
          </a:xfrm>
          <a:prstGeom prst="rect">
            <a:avLst/>
          </a:prstGeom>
          <a:noFill/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2050920" y="6380280"/>
            <a:ext cx="576360" cy="0"/>
          </a:xfrm>
          <a:prstGeom prst="line">
            <a:avLst/>
          </a:prstGeom>
          <a:ln w="25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684360" y="6237360"/>
            <a:ext cx="1366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parabl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2B1E-2EE8-40BA-A644-BAAD7C6388B4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2"/>
          <p:cNvSpPr/>
          <p:nvPr/>
        </p:nvSpPr>
        <p:spPr>
          <a:xfrm>
            <a:off x="325440" y="1467000"/>
            <a:ext cx="7038720" cy="465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util.Array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TestInterface 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[] list = new Employee[3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0] = new Executive("Jarallah Al-Ghamdi", 500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1] = new HourlyEmployee("Azmat Ansari", 12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2] = new MonthlyEmployee("Sahalu Junaidu", 90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((Executive)list[0]).awardBonus(110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list.length; i++)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(list[i] instanceof HourlyEmployee)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((HourlyEmployee)list[i]).addHours(6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s.sort(list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list.length; i++) 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i].pr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Paid: " + list[i].pay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*********************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560"/>
            <a:ext cx="73152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of Interfaces (contd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6348240" y="5181480"/>
          <a:ext cx="1957680" cy="15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8240" y="5181480"/>
                    <a:ext cx="195768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ce Employee class implements the Comparable interface, the array of employees can now be sorted as shown below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284720" y="6157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program 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808020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53CC-7D92-457B-940A-5726EB0EA353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es an interface differ from an abstract clas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oes Java not support multiple inheritance?  What feature of Java helps realize the benefits of multiple inheritanc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bstract class must contain at least one abstract method, (true or false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objects of a subclass is typically larger than its super class, (true or false)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ubclass typically encapsulates less functionality than its super class does, (true or false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nstance of a class can be assigned to a variable of type  any of the interfaces the class implements, (true or false)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11EE-088A-46A6-A82C-B4BF219ADDA1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of Object-Oriented Concepts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-Oriented Concepts supported by JA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tages of Object-Ori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herit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a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Questi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EE17-1890-4E20-9008-94BCE402DFE5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bject-Oriented Concepts supported by JAV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provides explicit support for many of the fundamental Object-Oriented Concepts.  Some of these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ass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 Grouping related things together.  This is supported through classes, inheritance &amp; pack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 Representing data and the set of operations on the data as a single entity - exactly what classes d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 An object should be in full control of its data, granting specific access only to whom it wish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Java allows related classes to be organized in a hierarchical manner using the extends keyw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ame code behaves differently at different  times during execution. This is due to dynamic bind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14AD-8D52-44CE-BCB5-135B511E8E41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dvantages of Object-Orientation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umber of advantages can be derived as a result of these object-oriented features.  Some of these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us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 Rather than endlessly rewriting the same piece of code, we write it once and use it or inherit it as nee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tensi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 A class can be extended without affecting its users provided that the user-interface remains the sa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intain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gain, once the user-interface does not change, the implementation can be changed at wi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anks to information hiding, a user can only access the information he has been allowed to ac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lassification and Encapsulation allow portrayal of real-world problems in a simplified mode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CDCD-13BC-4F76-A407-0E6177A7BDA7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of inheritan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212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257480" y="2117880"/>
            <a:ext cx="6276600" cy="423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Employee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ected String nam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ected double payRat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Employee(String name, double payRate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name = nam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payRate = payRate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Name()  {return name;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setPayRate(double newRate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yRate = newRat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double pay()  {return payRate;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print(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Name: " + 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Pay Rate: "+payRat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38CD-8494-4659-883C-EBC18AB47EF8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of inheritance (contd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, suppose we wish to define another class to represent a part-time employee whose salary is paid per hour.  We inherit from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62240" y="2435400"/>
            <a:ext cx="7617960" cy="350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HourlyEmployee extends Employee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hou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ourlyEmployee(String hName, double hRate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(hName, hRat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addHours(int moreHours)  {hours += moreHours;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double pay()  {return payRate * hours;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print(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pr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Current hours: " + hou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70A1-DC86-4968-BD3E-8E7C395E51B5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otes about Inheritan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observe the following from the examples on inheritance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s and instance variables of the super class are inherited by subclasses, thus allowing for code reu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subclass can define additional instance variables (e.g. hours) and additional methods (e.g. addHour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subclass can override some of the methods of the super class to make them behave differently (e.g. the pay &amp; pri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tructors are not inherited, but can be called using the super keyword.  such a call must be the first statem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the constructor of the super class is not called, then the complier inserts a call to the default constructor -watch out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er may also be used to call a method of the super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3DB2-8D44-40C0-8925-F6B3015B1498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of Abstract Class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heritance enforces hierarchical organization, the benefits of which are: reusability, type sharing and polymorp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uses Abstract classes &amp; Interfaces to further strengthen the idea of inherit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see the role of abstract of classes, suppose that 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s not implemented in 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ourly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viously, th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lass will be assumed, which will lead to wrong resul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solution is to remove th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thod out and put it in another extension of the Employee class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nthlyEmploye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roblem with this solution is that it does not force  subclasses of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lass to implement th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80D8-343A-46A5-8732-5EDAF5425516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view of Abstract Classes (Cont'd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1197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olution is to declare the pay method of the Employee class as abstract, thus, making the class abstra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118160" y="2057400"/>
            <a:ext cx="7861680" cy="423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 class Employee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ected String nam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ected double payRat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Employee(String empName, double empRate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empNam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yRate = empRat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getName()  {return name;}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setPayRate(double newRate)  {payRate = newRate;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 public double pa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print() 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Name: " + 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Pay Rate: "+payRat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Slide Number Placeholder 1"/>
          <p:cNvSpPr/>
          <p:nvPr/>
        </p:nvSpPr>
        <p:spPr>
          <a:xfrm>
            <a:off x="8686800" y="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1C7E-08D9-4A22-8364-D32CCA81658B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09:55Z</dcterms:created>
  <dc:creator>Sami</dc:creator>
  <dc:description/>
  <dc:language>en-US</dc:language>
  <cp:lastModifiedBy>Dr. Wasfi G. Al-Khatib</cp:lastModifiedBy>
  <dcterms:modified xsi:type="dcterms:W3CDTF">2012-02-22T05:38:47Z</dcterms:modified>
  <cp:revision>7</cp:revision>
  <dc:subject/>
  <dc:title>PowerPoint Presentation</dc:title>
</cp:coreProperties>
</file>